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37.jpeg" ContentType="image/jpeg"/>
  <Override PartName="/ppt/media/image30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12.png" ContentType="image/png"/>
  <Override PartName="/ppt/media/image34.jpeg" ContentType="image/jpeg"/>
  <Override PartName="/ppt/media/image36.jpeg" ContentType="image/jpeg"/>
  <Override PartName="/ppt/media/image20.png" ContentType="image/png"/>
  <Override PartName="/ppt/media/image38.jpeg" ContentType="image/jpeg"/>
  <Override PartName="/ppt/media/image28.png" ContentType="image/png"/>
  <Override PartName="/ppt/media/image7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99DF-A615-4F07-9DEB-1621BEBD0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D687-EC5E-425C-9D1C-20CC2B7B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7694-BDE1-4E10-B0F3-D9A4A9A6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049B-2E22-4598-BB2B-E3E493EB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2400-D745-4B15-A32A-079A611C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92F6-71B4-4675-A398-52E53F88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F1AD-A934-4FD4-AF5E-B6B89305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C275-8C7F-4D8A-A6ED-42DD4CD6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A79E-5894-4188-8CD4-C922CF93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E531-B9ED-48E6-A790-2946E1CF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CC3D-28F3-4027-BF37-93AE192D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35C9-4350-467B-BA78-8965828C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F799-CD6A-47DE-83A5-43066C12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D4FF-1BC5-4A03-9C40-9D1B9C7E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81B9-AC17-471F-AC3C-45D5723D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9995-C890-4A96-BE37-9488743A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59AB-E75B-41C2-9FFE-ABE3A1D2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A7E9-F176-4363-8420-13C4688C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E485-E1D8-4CD0-8987-FB99E504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0BC5-F7E0-4D9C-B7E1-77A8E6FC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9017-4E26-42AC-917D-9F960197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1D95-3786-4E24-B82A-CB208524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B86C-D61C-4552-A425-A44B1053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662F-3D0F-48BE-8FD0-C5769F20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397560"/>
            <a:ext cx="21337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mber 17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97560"/>
            <a:ext cx="28958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Enterprises Lab, CSA, II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DC76-84DB-4782-803B-6740DCB4E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458200" cy="60958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533520" y="5378400"/>
            <a:ext cx="1447560" cy="86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23720" y="5445000"/>
            <a:ext cx="14479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80520" y="6397560"/>
            <a:ext cx="21337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mber 17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97560"/>
            <a:ext cx="28958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Enterprises Lab, CSA, II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A3E1-3704-4939-9149-894CF85DF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8600"/>
            <a:ext cx="8458200" cy="60958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mages.google.co.in/imgres?imgurl=www.all-vending-machines.com/images/man_thinking.gif&amp;imgrefurl=http://www.all-vending-machines.com/&amp;h=573&amp;w=490&amp;prev=/images%3Fq%3Dman%2Bthinking%26svnum%3D10%26hl%3Den%26lr%3D%26ie%3DUTF-8%26oe%3DUTF-8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mages.google.co.in/imgres?imgurl=www.all-vending-machines.com/images/man_thinking.gif&amp;imgrefurl=http://www.all-vending-machines.com/&amp;h=573&amp;w=490&amp;prev=/images%3Fq%3Dman%2Bthinking%26svnum%3D10%26hl%3Den%26lr%3D%26ie%3DUTF-8%26oe%3DUTF-8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mages.google.co.in/imgres?imgurl=www.all-vending-machines.com/images/man_thinking.gif&amp;imgrefurl=http://www.all-vending-machines.com/&amp;h=573&amp;w=490&amp;prev=/images%3Fq%3Dman%2Bthinking%26svnum%3D10%26hl%3Den%26lr%3D%26ie%3DUTF-8%26oe%3DUTF-8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7.png"/><Relationship Id="rId3" Type="http://schemas.openxmlformats.org/officeDocument/2006/relationships/image" Target="../media/image27.png"/><Relationship Id="rId4" Type="http://schemas.openxmlformats.org/officeDocument/2006/relationships/image" Target="../media/image1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14400" y="2286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Equilibria of Strategic Form G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53341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nesh Ga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. of CSA, IISc, Bangal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5181840" cy="353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1674-3446-49F4-BC83-5DD906EE13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1371600" y="1793880"/>
          <a:ext cx="6683400" cy="3311640"/>
        </p:xfrm>
        <a:graphic>
          <a:graphicData uri="http://schemas.openxmlformats.org/drawingml/2006/table">
            <a:tbl>
              <a:tblPr/>
              <a:tblGrid>
                <a:gridCol w="2227320"/>
                <a:gridCol w="2228760"/>
                <a:gridCol w="2227320"/>
              </a:tblGrid>
              <a:tr h="603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oner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oner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Example: Weakly Dominated Strategy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76520" y="3886200"/>
            <a:ext cx="62481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52480" y="3200400"/>
            <a:ext cx="6248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DD58-E1E0-49E4-919D-203FEF7D1E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33520" y="1522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Solution Concept for Strategic Form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044880" y="966960"/>
                <a:ext cx="2746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23" name=""/>
          <p:cNvGrpSpPr/>
          <p:nvPr/>
        </p:nvGrpSpPr>
        <p:grpSpPr>
          <a:xfrm>
            <a:off x="304920" y="1241280"/>
            <a:ext cx="8686800" cy="4778280"/>
            <a:chOff x="304920" y="1241280"/>
            <a:chExt cx="8686800" cy="4778280"/>
          </a:xfrm>
        </p:grpSpPr>
        <p:sp>
          <p:nvSpPr>
            <p:cNvPr id="224" name=""/>
            <p:cNvSpPr/>
            <p:nvPr/>
          </p:nvSpPr>
          <p:spPr>
            <a:xfrm>
              <a:off x="304920" y="1241280"/>
              <a:ext cx="8686800" cy="43210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>
                <a:lnSpc>
                  <a:spcPct val="110000"/>
                </a:lnSpc>
                <a:buClr>
                  <a:srgbClr val="0066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0066ff"/>
                  </a:solidFill>
                  <a:uFillTx/>
                  <a:latin typeface="Arial"/>
                </a:rPr>
                <a:t>Defini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66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0066ff"/>
                  </a:solidFill>
                  <a:uFillTx/>
                  <a:latin typeface="Arial"/>
                </a:rPr>
                <a:t>Best Response Strategy: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 strategy    is best response for player    to his rival strategy profile      i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0066ff"/>
                  </a:solidFill>
                  <a:uFillTx/>
                  <a:latin typeface="Arial"/>
                </a:rPr>
                <a:t>Never a Best Response Strategy:</a:t>
              </a:r>
              <a:r>
                <a:rPr b="1" i="1" lang="en-US" sz="2400" spc="-1" strike="noStrike">
                  <a:solidFill>
                    <a:srgbClr val="0066ff"/>
                  </a:solidFill>
                  <a:latin typeface="Arial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 strategy    is never a best response for player     if there is no        for which    is a best response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For each                             such th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3886200" y="3886200"/>
                  <a:ext cx="32076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'</m:t>
                      </m:r>
                      <m:r>
                        <m:t xml:space="preserve">i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1981440" y="2184120"/>
                  <a:ext cx="29340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6019920" y="3733560"/>
                  <a:ext cx="40176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335320" y="2895480"/>
                  <a:ext cx="366552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</m:e>
                      </m:d>
                      <m:r>
                        <m:t xml:space="preserve">≥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</m:e>
                      </m:d>
                      <m:r>
                        <m:t xml:space="preserve">∀</m:t>
                      </m:r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∈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6934320" y="3352680"/>
                  <a:ext cx="29376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5867640" y="2209680"/>
                  <a:ext cx="32040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'</m:t>
                      </m:r>
                      <m:r>
                        <m:t xml:space="preserve">i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7848720" y="3809880"/>
                  <a:ext cx="29196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1447920" y="2590560"/>
                  <a:ext cx="39996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1865520" y="4976640"/>
                  <a:ext cx="224928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i</m:t>
                          </m:r>
                        </m:sub>
                      </m:sSub>
                      <m:r>
                        <m:t xml:space="preserve">∈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∃</m:t>
                      </m:r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∈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3060720" y="5510160"/>
                  <a:ext cx="273060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</m:e>
                      </m:d>
                      <m:r>
                        <m:t xml:space="preserve">&gt;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8B01-59F4-4B44-8F04-48B4BEEEA2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33520" y="1522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Solution Concept for Strategic Form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3044880" y="966960"/>
                <a:ext cx="2746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37" name=""/>
          <p:cNvGraphicFramePr/>
          <p:nvPr/>
        </p:nvGraphicFramePr>
        <p:xfrm>
          <a:off x="762120" y="1523880"/>
          <a:ext cx="7772400" cy="3081240"/>
        </p:xfrm>
        <a:graphic>
          <a:graphicData uri="http://schemas.openxmlformats.org/drawingml/2006/table">
            <a:tbl>
              <a:tblPr/>
              <a:tblGrid>
                <a:gridCol w="1371600"/>
                <a:gridCol w="3124080"/>
                <a:gridCol w="3276720"/>
              </a:tblGrid>
              <a:tr h="54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9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ctly Dominated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ly Dominated Strateg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 Response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er a Best Response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ctly Dominant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ly Dominant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332000" y="1887480"/>
                <a:ext cx="3445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105520" y="1676520"/>
                <a:ext cx="431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4518000" y="6012000"/>
            <a:ext cx="2416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523880" y="4800600"/>
            <a:ext cx="6476400" cy="1372320"/>
            <a:chOff x="1523880" y="4800600"/>
            <a:chExt cx="6476400" cy="1372320"/>
          </a:xfrm>
        </p:grpSpPr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1523880" y="4800600"/>
                  <a:ext cx="279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3" name=""/>
            <p:cNvSpPr/>
            <p:nvPr/>
          </p:nvSpPr>
          <p:spPr>
            <a:xfrm>
              <a:off x="1831680" y="4815000"/>
              <a:ext cx="306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strictly dominated strate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848920" y="4800600"/>
              <a:ext cx="21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NBR strate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52880" y="4952880"/>
              <a:ext cx="914400" cy="152640"/>
            </a:xfrm>
            <a:prstGeom prst="rightArrow">
              <a:avLst>
                <a:gd name="adj1" fmla="val 50000"/>
                <a:gd name="adj2" fmla="val 14976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5918040" y="4800600"/>
                  <a:ext cx="2797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7" name=""/>
            <p:cNvSpPr/>
            <p:nvPr/>
          </p:nvSpPr>
          <p:spPr>
            <a:xfrm>
              <a:off x="4876920" y="5257800"/>
              <a:ext cx="914400" cy="152280"/>
            </a:xfrm>
            <a:prstGeom prst="leftArrow">
              <a:avLst>
                <a:gd name="adj1" fmla="val 50000"/>
                <a:gd name="adj2" fmla="val 15011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5410080" y="54097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5257440" y="556236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57800" y="55627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3400" y="58356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ame is finite G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FC03-3D03-4626-8FED-2B1E8183B8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1371600" y="1793880"/>
          <a:ext cx="6683400" cy="3311640"/>
        </p:xfrm>
        <a:graphic>
          <a:graphicData uri="http://schemas.openxmlformats.org/drawingml/2006/table">
            <a:tbl>
              <a:tblPr/>
              <a:tblGrid>
                <a:gridCol w="2227320"/>
                <a:gridCol w="2228760"/>
                <a:gridCol w="2227320"/>
              </a:tblGrid>
              <a:tr h="603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er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er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Example: BR/ NBR Strategies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76520" y="4495680"/>
            <a:ext cx="62481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2238-351E-486F-92A4-E47891E1F7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3825720" y="3949560"/>
          <a:ext cx="3489120" cy="1917720"/>
        </p:xfrm>
        <a:graphic>
          <a:graphicData uri="http://schemas.openxmlformats.org/drawingml/2006/table">
            <a:tbl>
              <a:tblPr/>
              <a:tblGrid>
                <a:gridCol w="1965240"/>
                <a:gridCol w="152388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oner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6,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5,-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533520" y="30492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Removal of Strongly  Dominated  Strategies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133720" y="1752480"/>
          <a:ext cx="5181480" cy="1917720"/>
        </p:xfrm>
        <a:graphic>
          <a:graphicData uri="http://schemas.openxmlformats.org/drawingml/2006/table">
            <a:tbl>
              <a:tblPr/>
              <a:tblGrid>
                <a:gridCol w="1692000"/>
                <a:gridCol w="1965600"/>
                <a:gridCol w="152388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one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oner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Conf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Conf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,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6,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-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5,-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2133720" y="2590920"/>
            <a:ext cx="518148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2209680"/>
            <a:ext cx="16761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133720" y="3949560"/>
          <a:ext cx="1692000" cy="1917720"/>
        </p:xfrm>
        <a:graphic>
          <a:graphicData uri="http://schemas.openxmlformats.org/drawingml/2006/table">
            <a:tbl>
              <a:tblPr/>
              <a:tblGrid>
                <a:gridCol w="1692000"/>
              </a:tblGrid>
              <a:tr h="7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one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Conf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825720" y="3949560"/>
          <a:ext cx="3489120" cy="1917720"/>
        </p:xfrm>
        <a:graphic>
          <a:graphicData uri="http://schemas.openxmlformats.org/drawingml/2006/table">
            <a:tbl>
              <a:tblPr/>
              <a:tblGrid>
                <a:gridCol w="1965240"/>
                <a:gridCol w="152388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oner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Conf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6,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-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5,-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3962520" y="4419720"/>
            <a:ext cx="16761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33720" y="4800600"/>
            <a:ext cx="518148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FE8E-D72B-47E1-819B-88C9889B5D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80880" y="1219320"/>
            <a:ext cx="8382240" cy="4267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fter one or more strongly dominated strategies have been eliminated from a game, other strategies that were not strongly dominated in the original game may become strongly dominated in the game that re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ayers’ common knowledge of each other’s payoff and rationality allows us iterative removal of strongly dominated  strategi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erative elimination of  strongly dominated strategies leads to a set    , a nonempty subset of      and is interpreted as the set of strategies that player     might reasonably be expected  to 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30492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Iterative Removal of SD Strategies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2895480" y="4267080"/>
                <a:ext cx="2937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359400" y="4267080"/>
                <a:ext cx="346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7162920" y="4724280"/>
                <a:ext cx="3204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'</m:t>
                    </m:r>
                    <m:r>
                      <m:t xml:space="preserve">i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6E59-7FE0-4B2E-9EBF-C7C6FFBD1C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457200" y="914400"/>
          <a:ext cx="8229600" cy="5181480"/>
        </p:xfrm>
        <a:graphic>
          <a:graphicData uri="http://schemas.openxmlformats.org/drawingml/2006/table">
            <a:tbl>
              <a:tblPr/>
              <a:tblGrid>
                <a:gridCol w="914400"/>
                <a:gridCol w="1523880"/>
                <a:gridCol w="1524240"/>
                <a:gridCol w="1523880"/>
                <a:gridCol w="1219320"/>
                <a:gridCol w="1523880"/>
              </a:tblGrid>
              <a:tr h="14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380880" y="763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Iterative Removal of SD.  Strategies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447920" y="914400"/>
            <a:ext cx="1371600" cy="1433520"/>
            <a:chOff x="1447920" y="914400"/>
            <a:chExt cx="1371600" cy="1433520"/>
          </a:xfrm>
        </p:grpSpPr>
        <p:sp>
          <p:nvSpPr>
            <p:cNvPr id="272" name=""/>
            <p:cNvSpPr/>
            <p:nvPr/>
          </p:nvSpPr>
          <p:spPr>
            <a:xfrm>
              <a:off x="1447920" y="976320"/>
              <a:ext cx="1371600" cy="13716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71920" y="1295280"/>
              <a:ext cx="722160" cy="7225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24200" y="1447920"/>
              <a:ext cx="7632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47880" y="1600200"/>
              <a:ext cx="7488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2076480" y="914400"/>
                  <a:ext cx="3034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2000520" y="1371600"/>
                  <a:ext cx="45720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278" name=""/>
            <p:cNvSpPr/>
            <p:nvPr/>
          </p:nvSpPr>
          <p:spPr>
            <a:xfrm>
              <a:off x="2076480" y="1828800"/>
              <a:ext cx="7488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05080" y="1752480"/>
              <a:ext cx="74880" cy="7164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71920" y="2057400"/>
              <a:ext cx="7452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24200" y="1752480"/>
              <a:ext cx="74520" cy="7164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05080" y="2133720"/>
              <a:ext cx="7488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00520" y="2133720"/>
              <a:ext cx="7452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8458200" y="3121200"/>
            <a:ext cx="69840" cy="7920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458200" y="3121200"/>
            <a:ext cx="69840" cy="7920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381880" y="2511360"/>
            <a:ext cx="69840" cy="7956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381880" y="2206800"/>
            <a:ext cx="69840" cy="7920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62920" y="2206800"/>
            <a:ext cx="69840" cy="7920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971800" y="914400"/>
            <a:ext cx="1371600" cy="1433520"/>
            <a:chOff x="2971800" y="914400"/>
            <a:chExt cx="1371600" cy="1433520"/>
          </a:xfrm>
        </p:grpSpPr>
        <p:sp>
          <p:nvSpPr>
            <p:cNvPr id="290" name=""/>
            <p:cNvSpPr/>
            <p:nvPr/>
          </p:nvSpPr>
          <p:spPr>
            <a:xfrm>
              <a:off x="2971800" y="976320"/>
              <a:ext cx="1371600" cy="13716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95800" y="1295640"/>
              <a:ext cx="722160" cy="7221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48080" y="1447920"/>
              <a:ext cx="7632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71760" y="1600200"/>
              <a:ext cx="74880" cy="7164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3589200" y="914400"/>
                  <a:ext cx="32544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3524400" y="1371600"/>
                  <a:ext cx="45720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296" name=""/>
            <p:cNvSpPr/>
            <p:nvPr/>
          </p:nvSpPr>
          <p:spPr>
            <a:xfrm>
              <a:off x="3600360" y="1828800"/>
              <a:ext cx="74880" cy="7164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28960" y="1752840"/>
              <a:ext cx="7488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95800" y="2057400"/>
              <a:ext cx="74520" cy="7164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48080" y="1752840"/>
              <a:ext cx="7452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28960" y="2133720"/>
              <a:ext cx="7488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24400" y="2133720"/>
              <a:ext cx="7452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495680" y="914400"/>
            <a:ext cx="1371600" cy="1444680"/>
            <a:chOff x="4495680" y="914400"/>
            <a:chExt cx="1371600" cy="1444680"/>
          </a:xfrm>
        </p:grpSpPr>
        <p:sp>
          <p:nvSpPr>
            <p:cNvPr id="303" name=""/>
            <p:cNvSpPr/>
            <p:nvPr/>
          </p:nvSpPr>
          <p:spPr>
            <a:xfrm>
              <a:off x="4495680" y="987480"/>
              <a:ext cx="1371600" cy="1371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19320" y="1306440"/>
              <a:ext cx="722520" cy="7225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71960" y="1459080"/>
              <a:ext cx="7596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95640" y="1611360"/>
              <a:ext cx="7452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5113080" y="914400"/>
                  <a:ext cx="32688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5047920" y="1371600"/>
                  <a:ext cx="45720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309" name=""/>
            <p:cNvSpPr/>
            <p:nvPr/>
          </p:nvSpPr>
          <p:spPr>
            <a:xfrm>
              <a:off x="5124240" y="1839960"/>
              <a:ext cx="7452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52840" y="1763640"/>
              <a:ext cx="74520" cy="7164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19320" y="2068560"/>
              <a:ext cx="7488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71960" y="1763640"/>
              <a:ext cx="74520" cy="7164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52840" y="2144880"/>
              <a:ext cx="7452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47920" y="2144880"/>
              <a:ext cx="7488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7238880" y="914400"/>
            <a:ext cx="1371600" cy="1433520"/>
            <a:chOff x="7238880" y="914400"/>
            <a:chExt cx="1371600" cy="1433520"/>
          </a:xfrm>
        </p:grpSpPr>
        <p:sp>
          <p:nvSpPr>
            <p:cNvPr id="316" name=""/>
            <p:cNvSpPr/>
            <p:nvPr/>
          </p:nvSpPr>
          <p:spPr>
            <a:xfrm>
              <a:off x="7238880" y="976320"/>
              <a:ext cx="1371600" cy="13716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62880" y="1295280"/>
              <a:ext cx="722160" cy="7221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15160" y="1447560"/>
              <a:ext cx="76320" cy="7164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38840" y="1600200"/>
              <a:ext cx="74880" cy="7128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7856280" y="914400"/>
                  <a:ext cx="3272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7791480" y="1371600"/>
                  <a:ext cx="45720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322" name=""/>
            <p:cNvSpPr/>
            <p:nvPr/>
          </p:nvSpPr>
          <p:spPr>
            <a:xfrm>
              <a:off x="7867440" y="1828800"/>
              <a:ext cx="74880" cy="7128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076960" y="1741320"/>
              <a:ext cx="74880" cy="7128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62880" y="2057400"/>
              <a:ext cx="74520" cy="7128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715160" y="1752480"/>
              <a:ext cx="74520" cy="7128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096040" y="2133360"/>
              <a:ext cx="74880" cy="7164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791480" y="2133360"/>
              <a:ext cx="74520" cy="7164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1447920" y="2424240"/>
            <a:ext cx="1371600" cy="1371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71560" y="2743200"/>
            <a:ext cx="722520" cy="722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24200" y="2895480"/>
            <a:ext cx="75960" cy="7164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847880" y="3048120"/>
            <a:ext cx="7452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076480" y="2362320"/>
                <a:ext cx="303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1989000" y="2819520"/>
                <a:ext cx="47952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2076480" y="3276720"/>
            <a:ext cx="7452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3352680"/>
            <a:ext cx="74520" cy="7164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771560" y="3505320"/>
            <a:ext cx="7488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24200" y="3200400"/>
            <a:ext cx="7452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05080" y="3581280"/>
            <a:ext cx="74520" cy="7164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000160" y="3581280"/>
            <a:ext cx="74880" cy="7164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2424240"/>
            <a:ext cx="1371600" cy="1371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95800" y="2743200"/>
            <a:ext cx="722160" cy="7221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48080" y="2895480"/>
            <a:ext cx="76320" cy="7164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371760" y="3048120"/>
            <a:ext cx="7488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3589200" y="2362320"/>
                <a:ext cx="3254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3513240" y="2819520"/>
                <a:ext cx="4791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3600360" y="3276720"/>
            <a:ext cx="7488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038480" y="3429000"/>
            <a:ext cx="7488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95800" y="3505320"/>
            <a:ext cx="7452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48080" y="3200400"/>
            <a:ext cx="7452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828960" y="3581280"/>
            <a:ext cx="74880" cy="7164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524400" y="3581280"/>
            <a:ext cx="74520" cy="7164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95680" y="243828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19680" y="2757600"/>
            <a:ext cx="722160" cy="7221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971960" y="2909880"/>
            <a:ext cx="7632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96000" y="3062160"/>
            <a:ext cx="74520" cy="7164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5113440" y="2365200"/>
                <a:ext cx="326880" cy="4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5037120" y="2822400"/>
                <a:ext cx="4795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4648320" y="3276720"/>
            <a:ext cx="7452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486400" y="3429000"/>
            <a:ext cx="7452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819680" y="3519360"/>
            <a:ext cx="74520" cy="7164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971960" y="3214800"/>
            <a:ext cx="7488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53200" y="3595680"/>
            <a:ext cx="7452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048280" y="3595680"/>
            <a:ext cx="7452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238880" y="2424240"/>
            <a:ext cx="1371600" cy="13716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562880" y="2743200"/>
            <a:ext cx="722160" cy="72216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15160" y="2895480"/>
            <a:ext cx="76320" cy="7164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39200" y="3048120"/>
            <a:ext cx="74520" cy="7128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7856640" y="2362320"/>
                <a:ext cx="326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7780320" y="2819520"/>
                <a:ext cx="4809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7467480" y="3276720"/>
            <a:ext cx="74880" cy="7128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305920" y="3429000"/>
            <a:ext cx="74520" cy="7128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562880" y="3505320"/>
            <a:ext cx="74520" cy="7128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715160" y="3200400"/>
            <a:ext cx="74880" cy="7128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96400" y="3581280"/>
            <a:ext cx="74520" cy="7164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791480" y="3581280"/>
            <a:ext cx="74520" cy="7164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47920" y="4648320"/>
            <a:ext cx="1371600" cy="1371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771560" y="4967280"/>
            <a:ext cx="722520" cy="722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209680" y="5486400"/>
            <a:ext cx="7632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981080" y="5486400"/>
            <a:ext cx="7488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2076480" y="4586400"/>
                <a:ext cx="303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967040" y="5043600"/>
                <a:ext cx="5252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1676520" y="5562720"/>
            <a:ext cx="7452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514600" y="5562720"/>
            <a:ext cx="7452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771560" y="5729400"/>
            <a:ext cx="7488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600200" y="5410080"/>
            <a:ext cx="74520" cy="7164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305080" y="5805360"/>
            <a:ext cx="74520" cy="7164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00160" y="5805360"/>
            <a:ext cx="74880" cy="7164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971800" y="4633920"/>
            <a:ext cx="1371600" cy="1371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295800" y="4952880"/>
            <a:ext cx="722160" cy="722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657600" y="5486400"/>
            <a:ext cx="7632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371760" y="5257800"/>
            <a:ext cx="7488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3589200" y="4572000"/>
                <a:ext cx="3254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490920" y="5029200"/>
                <a:ext cx="5256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3124080" y="5334120"/>
            <a:ext cx="7488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114800" y="5562720"/>
            <a:ext cx="7452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295800" y="5715000"/>
            <a:ext cx="7452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448080" y="5410080"/>
            <a:ext cx="74520" cy="7164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28960" y="5791320"/>
            <a:ext cx="7488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524400" y="5791320"/>
            <a:ext cx="7452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95680" y="464508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819680" y="4964040"/>
            <a:ext cx="722160" cy="722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181480" y="5486400"/>
            <a:ext cx="7632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896000" y="5268960"/>
            <a:ext cx="7452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113440" y="4572000"/>
                <a:ext cx="3268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014800" y="5029200"/>
                <a:ext cx="5256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4724280" y="5486400"/>
            <a:ext cx="7488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638680" y="5562720"/>
            <a:ext cx="7488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19680" y="5726160"/>
            <a:ext cx="7452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971960" y="5421240"/>
            <a:ext cx="74880" cy="7164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353200" y="5802480"/>
            <a:ext cx="7452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048280" y="5802480"/>
            <a:ext cx="74520" cy="7128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238880" y="4633920"/>
            <a:ext cx="1371600" cy="13716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562880" y="4952880"/>
            <a:ext cx="722160" cy="7225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696080" y="5410080"/>
            <a:ext cx="76320" cy="7164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391520" y="5181480"/>
            <a:ext cx="74520" cy="7164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7856640" y="4572000"/>
                <a:ext cx="326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7758000" y="5029200"/>
                <a:ext cx="5256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18" name=""/>
          <p:cNvSpPr/>
          <p:nvPr/>
        </p:nvSpPr>
        <p:spPr>
          <a:xfrm>
            <a:off x="7867800" y="5486400"/>
            <a:ext cx="74520" cy="7128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77320" y="5398920"/>
            <a:ext cx="74520" cy="7164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62880" y="5715000"/>
            <a:ext cx="74520" cy="7128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391520" y="5486400"/>
            <a:ext cx="74520" cy="7128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096400" y="5791320"/>
            <a:ext cx="74520" cy="7128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791480" y="5791320"/>
            <a:ext cx="74520" cy="7128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057400" y="3962520"/>
            <a:ext cx="0" cy="457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14400" y="3962520"/>
            <a:ext cx="0" cy="457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924680" y="3962520"/>
            <a:ext cx="0" cy="457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324480" y="4114800"/>
            <a:ext cx="4572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181480" y="3962520"/>
            <a:ext cx="0" cy="457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657600" y="3962520"/>
            <a:ext cx="0" cy="457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324480" y="1600200"/>
            <a:ext cx="4572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324480" y="2971800"/>
            <a:ext cx="4572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324480" y="5334120"/>
            <a:ext cx="4572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D84A-2F99-433E-8316-9C44DE33D6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6934320" y="3086280"/>
            <a:ext cx="1609560" cy="14857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4419720" y="3124080"/>
            <a:ext cx="1609560" cy="14860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2590920" y="3162240"/>
            <a:ext cx="1609560" cy="148608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4"/>
          <a:stretch/>
        </p:blipFill>
        <p:spPr>
          <a:xfrm>
            <a:off x="685800" y="3162240"/>
            <a:ext cx="1609560" cy="148608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533520" y="30492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Solution Concept for Strategic Form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2408400" y="1523880"/>
            <a:ext cx="1630080" cy="1676520"/>
            <a:chOff x="2408400" y="1523880"/>
            <a:chExt cx="1630080" cy="1676520"/>
          </a:xfrm>
        </p:grpSpPr>
        <p:sp>
          <p:nvSpPr>
            <p:cNvPr id="439" name=""/>
            <p:cNvSpPr/>
            <p:nvPr/>
          </p:nvSpPr>
          <p:spPr>
            <a:xfrm>
              <a:off x="2408400" y="1600200"/>
              <a:ext cx="1630080" cy="16002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89280" y="1981080"/>
              <a:ext cx="877680" cy="8384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703680" y="2057400"/>
              <a:ext cx="77760" cy="856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2" name=""/>
                <p:cNvSpPr txBox="1"/>
                <p:nvPr/>
              </p:nvSpPr>
              <p:spPr>
                <a:xfrm>
                  <a:off x="3094200" y="1523880"/>
                  <a:ext cx="34128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3" name=""/>
                <p:cNvSpPr txBox="1"/>
                <p:nvPr/>
              </p:nvSpPr>
              <p:spPr>
                <a:xfrm>
                  <a:off x="3094200" y="1981080"/>
                  <a:ext cx="31716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44" name=""/>
            <p:cNvSpPr/>
            <p:nvPr/>
          </p:nvSpPr>
          <p:spPr>
            <a:xfrm>
              <a:off x="3855960" y="2286000"/>
              <a:ext cx="7452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094200" y="2971800"/>
              <a:ext cx="7452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22800" y="2514600"/>
              <a:ext cx="7452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41560" y="2438280"/>
              <a:ext cx="74520" cy="7164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51400" y="2819520"/>
              <a:ext cx="75960" cy="7596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37000" y="2209680"/>
              <a:ext cx="74520" cy="7164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37000" y="2590920"/>
              <a:ext cx="7452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70160" y="2666880"/>
              <a:ext cx="74520" cy="7164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57200" y="1523880"/>
            <a:ext cx="1630080" cy="1676520"/>
            <a:chOff x="457200" y="1523880"/>
            <a:chExt cx="1630080" cy="1676520"/>
          </a:xfrm>
        </p:grpSpPr>
        <p:grpSp>
          <p:nvGrpSpPr>
            <p:cNvPr id="453" name=""/>
            <p:cNvGrpSpPr/>
            <p:nvPr/>
          </p:nvGrpSpPr>
          <p:grpSpPr>
            <a:xfrm>
              <a:off x="457200" y="1600200"/>
              <a:ext cx="1630080" cy="1600200"/>
              <a:chOff x="457200" y="1600200"/>
              <a:chExt cx="1630080" cy="1600200"/>
            </a:xfrm>
          </p:grpSpPr>
          <p:sp>
            <p:nvSpPr>
              <p:cNvPr id="454" name=""/>
              <p:cNvSpPr/>
              <p:nvPr/>
            </p:nvSpPr>
            <p:spPr>
              <a:xfrm>
                <a:off x="457200" y="1600200"/>
                <a:ext cx="1630080" cy="16002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38080" y="1981080"/>
                <a:ext cx="878040" cy="83808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1143000" y="2209680"/>
              <a:ext cx="7596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066680" y="2438280"/>
              <a:ext cx="7452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"/>
                <p:cNvSpPr txBox="1"/>
                <p:nvPr/>
              </p:nvSpPr>
              <p:spPr>
                <a:xfrm>
                  <a:off x="1066680" y="1523880"/>
                  <a:ext cx="36684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9" name=""/>
                <p:cNvSpPr txBox="1"/>
                <p:nvPr/>
              </p:nvSpPr>
              <p:spPr>
                <a:xfrm>
                  <a:off x="1295280" y="2057400"/>
                  <a:ext cx="29376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60" name=""/>
            <p:cNvSpPr/>
            <p:nvPr/>
          </p:nvSpPr>
          <p:spPr>
            <a:xfrm>
              <a:off x="1295280" y="2895480"/>
              <a:ext cx="7452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828800" y="2361960"/>
              <a:ext cx="74520" cy="7164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5800" y="2590560"/>
              <a:ext cx="74520" cy="7164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95280" y="2438280"/>
              <a:ext cx="7452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447560" y="1752480"/>
              <a:ext cx="7488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1760" y="1904760"/>
              <a:ext cx="74880" cy="7164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4343400" y="1523880"/>
            <a:ext cx="1630440" cy="1671480"/>
            <a:chOff x="4343400" y="1523880"/>
            <a:chExt cx="1630440" cy="1671480"/>
          </a:xfrm>
        </p:grpSpPr>
        <p:grpSp>
          <p:nvGrpSpPr>
            <p:cNvPr id="467" name=""/>
            <p:cNvGrpSpPr/>
            <p:nvPr/>
          </p:nvGrpSpPr>
          <p:grpSpPr>
            <a:xfrm>
              <a:off x="4343400" y="1595160"/>
              <a:ext cx="1630440" cy="1600200"/>
              <a:chOff x="4343400" y="1595160"/>
              <a:chExt cx="1630440" cy="1600200"/>
            </a:xfrm>
          </p:grpSpPr>
          <p:sp>
            <p:nvSpPr>
              <p:cNvPr id="468" name=""/>
              <p:cNvSpPr/>
              <p:nvPr/>
            </p:nvSpPr>
            <p:spPr>
              <a:xfrm>
                <a:off x="4343400" y="1595160"/>
                <a:ext cx="1630440" cy="16002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724280" y="1976040"/>
                <a:ext cx="878040" cy="8384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5029200" y="2280960"/>
              <a:ext cx="68400" cy="7920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1" name=""/>
                <p:cNvSpPr txBox="1"/>
                <p:nvPr/>
              </p:nvSpPr>
              <p:spPr>
                <a:xfrm>
                  <a:off x="5029200" y="1523880"/>
                  <a:ext cx="34308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2" name=""/>
                <p:cNvSpPr txBox="1"/>
                <p:nvPr/>
              </p:nvSpPr>
              <p:spPr>
                <a:xfrm>
                  <a:off x="5181480" y="2052360"/>
                  <a:ext cx="29376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73" name=""/>
            <p:cNvSpPr/>
            <p:nvPr/>
          </p:nvSpPr>
          <p:spPr>
            <a:xfrm>
              <a:off x="4952880" y="2509560"/>
              <a:ext cx="68400" cy="7920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2509560"/>
              <a:ext cx="68400" cy="7920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638680" y="2128680"/>
              <a:ext cx="68400" cy="7920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715000" y="2509560"/>
              <a:ext cx="68400" cy="7920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72000" y="2357280"/>
              <a:ext cx="68400" cy="7920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257800" y="2966760"/>
              <a:ext cx="68400" cy="7920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562720" y="2814480"/>
              <a:ext cx="68040" cy="7920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648320" y="2661840"/>
              <a:ext cx="68040" cy="7956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876920" y="2890440"/>
              <a:ext cx="68040" cy="7956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648320" y="2052360"/>
              <a:ext cx="68040" cy="7920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876920" y="1900080"/>
              <a:ext cx="68040" cy="7920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7010280" y="1521000"/>
            <a:ext cx="1630440" cy="1679400"/>
            <a:chOff x="7010280" y="1521000"/>
            <a:chExt cx="1630440" cy="1679400"/>
          </a:xfrm>
        </p:grpSpPr>
        <p:sp>
          <p:nvSpPr>
            <p:cNvPr id="485" name=""/>
            <p:cNvSpPr/>
            <p:nvPr/>
          </p:nvSpPr>
          <p:spPr>
            <a:xfrm>
              <a:off x="7010280" y="1597320"/>
              <a:ext cx="1630440" cy="1600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391520" y="1978200"/>
              <a:ext cx="877680" cy="83808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848720" y="2511720"/>
              <a:ext cx="69840" cy="7920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8" name=""/>
                <p:cNvSpPr txBox="1"/>
                <p:nvPr/>
              </p:nvSpPr>
              <p:spPr>
                <a:xfrm>
                  <a:off x="7696080" y="1521000"/>
                  <a:ext cx="34308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9" name=""/>
                <p:cNvSpPr txBox="1"/>
                <p:nvPr/>
              </p:nvSpPr>
              <p:spPr>
                <a:xfrm>
                  <a:off x="7848720" y="2054520"/>
                  <a:ext cx="31752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90" name=""/>
            <p:cNvSpPr/>
            <p:nvPr/>
          </p:nvSpPr>
          <p:spPr>
            <a:xfrm>
              <a:off x="7315200" y="2816280"/>
              <a:ext cx="69840" cy="7956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620120" y="2283120"/>
              <a:ext cx="69840" cy="7920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96080" y="2587680"/>
              <a:ext cx="69840" cy="7956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238880" y="2511720"/>
              <a:ext cx="69840" cy="7920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458200" y="3121200"/>
              <a:ext cx="69840" cy="7920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696080" y="3044880"/>
              <a:ext cx="69840" cy="7956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620120" y="2435400"/>
              <a:ext cx="69840" cy="7920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001000" y="3044880"/>
              <a:ext cx="69840" cy="7956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229600" y="2816280"/>
              <a:ext cx="69840" cy="7956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458200" y="3121200"/>
              <a:ext cx="69840" cy="7920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81880" y="2511720"/>
              <a:ext cx="69840" cy="7920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381880" y="2206800"/>
              <a:ext cx="69840" cy="7920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62920" y="2206800"/>
              <a:ext cx="69840" cy="7920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153280" y="1901880"/>
              <a:ext cx="69840" cy="7956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391520" y="1978200"/>
              <a:ext cx="69840" cy="7920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762120" y="48006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086600" y="4815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er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495680" y="4815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590920" y="48150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133720" y="5486400"/>
                <a:ext cx="5518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idual Gam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∞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</m:sSubSup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C561-DEFA-4F46-AE9B-C8CF40DF67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Iterative Removal of SD.  Strategies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04920" y="990720"/>
            <a:ext cx="8534160" cy="4267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order of deletion is immaterial in the process of iterative removal of strictly dominated strategies. However, it is not true with weakly dominate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iminating strategies for other players can never cause a strongly dominated strategy for a player   to cease be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rongly dominated but it can cause a weakly dominated strategy to cease being weakly domin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8F4E-8D1D-4DCB-89B9-CDE7E0C490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2" name=""/>
          <p:cNvGraphicFramePr/>
          <p:nvPr/>
        </p:nvGraphicFramePr>
        <p:xfrm>
          <a:off x="1219320" y="1905120"/>
          <a:ext cx="6683400" cy="3333600"/>
        </p:xfrm>
        <a:graphic>
          <a:graphicData uri="http://schemas.openxmlformats.org/drawingml/2006/table">
            <a:tbl>
              <a:tblPr/>
              <a:tblGrid>
                <a:gridCol w="2227320"/>
                <a:gridCol w="2228760"/>
                <a:gridCol w="2227320"/>
              </a:tblGrid>
              <a:tr h="623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oner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oner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04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1219320" y="1946160"/>
          <a:ext cx="6683400" cy="3311640"/>
        </p:xfrm>
        <a:graphic>
          <a:graphicData uri="http://schemas.openxmlformats.org/drawingml/2006/table">
            <a:tbl>
              <a:tblPr/>
              <a:tblGrid>
                <a:gridCol w="2227320"/>
                <a:gridCol w="2228760"/>
                <a:gridCol w="2227320"/>
              </a:tblGrid>
              <a:tr h="603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oner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oner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1219320" y="1946160"/>
          <a:ext cx="6683400" cy="3311640"/>
        </p:xfrm>
        <a:graphic>
          <a:graphicData uri="http://schemas.openxmlformats.org/drawingml/2006/table">
            <a:tbl>
              <a:tblPr/>
              <a:tblGrid>
                <a:gridCol w="2227320"/>
                <a:gridCol w="2228760"/>
                <a:gridCol w="2227320"/>
              </a:tblGrid>
              <a:tr h="603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oner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oner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1219320" y="1946160"/>
          <a:ext cx="6683400" cy="3311640"/>
        </p:xfrm>
        <a:graphic>
          <a:graphicData uri="http://schemas.openxmlformats.org/drawingml/2006/table">
            <a:tbl>
              <a:tblPr/>
              <a:tblGrid>
                <a:gridCol w="2227320"/>
                <a:gridCol w="2228760"/>
                <a:gridCol w="2227320"/>
              </a:tblGrid>
              <a:tr h="603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oner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oner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6" name=""/>
          <p:cNvSpPr/>
          <p:nvPr/>
        </p:nvSpPr>
        <p:spPr>
          <a:xfrm>
            <a:off x="1447920" y="3352680"/>
            <a:ext cx="62481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523880" y="4038480"/>
            <a:ext cx="6248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80880" y="30492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Iterative Removal of Weakly Dominated  Strategies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962520" y="2666880"/>
            <a:ext cx="121896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FD69-ECBE-46FC-BC38-94F10F23EE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82760" y="385920"/>
            <a:ext cx="817848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Objectives &amp; Scope of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“</a:t>
            </a:r>
            <a:r>
              <a:rPr b="1" i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Game Theory”</a:t>
            </a: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2760" y="1428840"/>
            <a:ext cx="8204040" cy="1423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overall goal of game theoretic analysis is to predict the behavior of rational-intelligent players (and hence their payoffs) in a given game before the game starts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2760" y="2982960"/>
            <a:ext cx="8204040" cy="2519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 </a:t>
            </a:r>
            <a:r>
              <a:rPr b="0" i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mathematical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can describe the real conflict/cooperation situation in a way adequate enough to pursue th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 a </a:t>
            </a:r>
            <a:r>
              <a:rPr b="0" i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solution conce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Rule for specifying predictions as to how players might be expected to behave in any given gam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DE1C-AC31-4793-8FB8-FC5D023A51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0" name=""/>
          <p:cNvGraphicFramePr/>
          <p:nvPr/>
        </p:nvGraphicFramePr>
        <p:xfrm>
          <a:off x="1219320" y="1981080"/>
          <a:ext cx="6683400" cy="3311640"/>
        </p:xfrm>
        <a:graphic>
          <a:graphicData uri="http://schemas.openxmlformats.org/drawingml/2006/table">
            <a:tbl>
              <a:tblPr/>
              <a:tblGrid>
                <a:gridCol w="2227320"/>
                <a:gridCol w="2228760"/>
                <a:gridCol w="2227320"/>
              </a:tblGrid>
              <a:tr h="603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oner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oner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1" name=""/>
          <p:cNvGraphicFramePr/>
          <p:nvPr/>
        </p:nvGraphicFramePr>
        <p:xfrm>
          <a:off x="1219320" y="1981080"/>
          <a:ext cx="6683400" cy="3311640"/>
        </p:xfrm>
        <a:graphic>
          <a:graphicData uri="http://schemas.openxmlformats.org/drawingml/2006/table">
            <a:tbl>
              <a:tblPr/>
              <a:tblGrid>
                <a:gridCol w="2227320"/>
                <a:gridCol w="2228760"/>
                <a:gridCol w="2227320"/>
              </a:tblGrid>
              <a:tr h="603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oner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oner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2" name=""/>
          <p:cNvSpPr/>
          <p:nvPr/>
        </p:nvSpPr>
        <p:spPr>
          <a:xfrm>
            <a:off x="380880" y="30492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Iterative Removal of Weakly Dominated  Strategies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1219320" y="1981080"/>
          <a:ext cx="6683400" cy="3311640"/>
        </p:xfrm>
        <a:graphic>
          <a:graphicData uri="http://schemas.openxmlformats.org/drawingml/2006/table">
            <a:tbl>
              <a:tblPr/>
              <a:tblGrid>
                <a:gridCol w="2227320"/>
                <a:gridCol w="2228760"/>
                <a:gridCol w="2227320"/>
              </a:tblGrid>
              <a:tr h="603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oner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oner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4" name=""/>
          <p:cNvSpPr/>
          <p:nvPr/>
        </p:nvSpPr>
        <p:spPr>
          <a:xfrm>
            <a:off x="1447920" y="3352680"/>
            <a:ext cx="62481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447920" y="4038480"/>
            <a:ext cx="62481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248520" y="2666880"/>
            <a:ext cx="106668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ED14-3185-4A98-8C43-DA31A5E02D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4572000" y="5675400"/>
            <a:ext cx="4148280" cy="461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28600" y="1143000"/>
            <a:ext cx="8534520" cy="4267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ayers’ common knowledge of each other’s payoff and rationality allows us iterative removal of NBR  strategi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fter one or more NBR strategies have been removed from a game, other strategies that were not NBR in the original game may become NBR in the game that re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erative elimination of  NBR strategies leads to a set       a nonempty subset of      and is interpreted as the set of player      rationalizable strateg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8393040" y="4243320"/>
                <a:ext cx="2937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997440" y="4548240"/>
                <a:ext cx="3459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1859040" y="4883040"/>
                <a:ext cx="4269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'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>
            <a:off x="457200" y="22860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Iterative Removal of NBR Strategies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687920" y="5621400"/>
            <a:ext cx="408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66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cc6600"/>
                </a:solidFill>
                <a:latin typeface="Arial"/>
              </a:rPr>
              <a:t>Bernheim and Pearce (1984)”</a:t>
            </a: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BD10-5BEA-432F-9026-31DB05E03F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Iterative Removal of NBR Strategies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1828800" y="914400"/>
          <a:ext cx="5486040" cy="1860480"/>
        </p:xfrm>
        <a:graphic>
          <a:graphicData uri="http://schemas.openxmlformats.org/drawingml/2006/table">
            <a:tbl>
              <a:tblPr/>
              <a:tblGrid>
                <a:gridCol w="1237680"/>
                <a:gridCol w="1476360"/>
                <a:gridCol w="1474560"/>
                <a:gridCol w="1297440"/>
              </a:tblGrid>
              <a:tr h="3682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6" name=""/>
          <p:cNvSpPr/>
          <p:nvPr/>
        </p:nvSpPr>
        <p:spPr>
          <a:xfrm>
            <a:off x="1905120" y="1676520"/>
            <a:ext cx="52578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581280" y="1371600"/>
            <a:ext cx="457200" cy="13716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371600"/>
              <a:gd name="textAreaBottom" fmla="*/ 1349280 h 1371600"/>
            </a:gdLst>
            <a:ahLst/>
            <a:rect l="textAreaLeft" t="textAreaTop" r="textAreaRight" b="textAreaBottom"/>
            <a:pathLst>
              <a:path w="21600" h="64766">
                <a:moveTo>
                  <a:pt x="3600" y="0"/>
                </a:moveTo>
                <a:arcTo wR="3600" hR="3600" stAng="16200000" swAng="-5400000"/>
                <a:lnTo>
                  <a:pt x="0" y="61166"/>
                </a:lnTo>
                <a:arcTo wR="3600" hR="3600" stAng="10800000" swAng="-5400000"/>
                <a:lnTo>
                  <a:pt x="18000" y="64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05120" y="2438280"/>
            <a:ext cx="525780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1371600"/>
            <a:ext cx="457200" cy="13716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371600"/>
              <a:gd name="textAreaBottom" fmla="*/ 1349280 h 1371600"/>
            </a:gdLst>
            <a:ahLst/>
            <a:rect l="textAreaLeft" t="textAreaTop" r="textAreaRight" b="textAreaBottom"/>
            <a:pathLst>
              <a:path w="21600" h="64766">
                <a:moveTo>
                  <a:pt x="3600" y="0"/>
                </a:moveTo>
                <a:arcTo wR="3600" hR="3600" stAng="16200000" swAng="-5400000"/>
                <a:lnTo>
                  <a:pt x="0" y="61166"/>
                </a:lnTo>
                <a:arcTo wR="3600" hR="3600" stAng="10800000" swAng="-5400000"/>
                <a:lnTo>
                  <a:pt x="18000" y="64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901800" cy="12319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1219320"/>
            <a:ext cx="1067040" cy="12380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228600" y="2666880"/>
            <a:ext cx="8610480" cy="3505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at makes you choose U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cause I expects Colin to choose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y do you expects Colin to choose 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cause I think that Colin believes that I am planning to choose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y do you think that Colin believes that you are planning to choose D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cause I think that Colin has a belief that I am expecting him to play R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y does he believe so 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cause he thinks that I have following thought,  “Colin thinks that I might  play U and hence expect me to play 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76C4-76C8-467F-BB4F-C0A246D827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2292480" y="3716280"/>
            <a:ext cx="6394320" cy="2535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914400" y="260280"/>
            <a:ext cx="7620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Taxonomy of Gam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286000" y="1295280"/>
            <a:ext cx="6394320" cy="2419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581280" y="2057400"/>
            <a:ext cx="39182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mes of Complete Information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16800" y="266688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535200" y="4662360"/>
            <a:ext cx="39182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mes of Incomplete Information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00800" y="1297080"/>
            <a:ext cx="0" cy="4954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843280" y="779400"/>
            <a:ext cx="21891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Finite Games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326280" y="801720"/>
            <a:ext cx="23605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Infinite Games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50920" y="1585800"/>
            <a:ext cx="21891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Pure Strategies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50920" y="2738520"/>
            <a:ext cx="21891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Mixed Strategies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7289640" y="1576440"/>
            <a:ext cx="635040" cy="633240"/>
            <a:chOff x="7289640" y="1576440"/>
            <a:chExt cx="635040" cy="633240"/>
          </a:xfrm>
        </p:grpSpPr>
        <p:sp>
          <p:nvSpPr>
            <p:cNvPr id="555" name=""/>
            <p:cNvSpPr/>
            <p:nvPr/>
          </p:nvSpPr>
          <p:spPr>
            <a:xfrm>
              <a:off x="7289640" y="1576440"/>
              <a:ext cx="635040" cy="63324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7458840" y="1756800"/>
              <a:ext cx="296640" cy="316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458840" y="1756800"/>
              <a:ext cx="338400" cy="316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2266920" y="2506680"/>
            <a:ext cx="6394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66920" y="4984920"/>
            <a:ext cx="6394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3680" y="4005360"/>
            <a:ext cx="21891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Pure Strategies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50920" y="5181480"/>
            <a:ext cx="21891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Mixed Strategies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7289640" y="2743200"/>
            <a:ext cx="635040" cy="633240"/>
            <a:chOff x="7289640" y="2743200"/>
            <a:chExt cx="635040" cy="633240"/>
          </a:xfrm>
        </p:grpSpPr>
        <p:sp>
          <p:nvSpPr>
            <p:cNvPr id="563" name=""/>
            <p:cNvSpPr/>
            <p:nvPr/>
          </p:nvSpPr>
          <p:spPr>
            <a:xfrm>
              <a:off x="7289640" y="2743200"/>
              <a:ext cx="635040" cy="63324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7458840" y="2923560"/>
              <a:ext cx="296640" cy="316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458840" y="2923560"/>
              <a:ext cx="338400" cy="316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7365960" y="5234040"/>
            <a:ext cx="635040" cy="633240"/>
            <a:chOff x="7365960" y="5234040"/>
            <a:chExt cx="635040" cy="633240"/>
          </a:xfrm>
        </p:grpSpPr>
        <p:sp>
          <p:nvSpPr>
            <p:cNvPr id="567" name=""/>
            <p:cNvSpPr/>
            <p:nvPr/>
          </p:nvSpPr>
          <p:spPr>
            <a:xfrm>
              <a:off x="7365960" y="5234040"/>
              <a:ext cx="635040" cy="63324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7535160" y="5414400"/>
              <a:ext cx="296640" cy="316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35160" y="5414400"/>
              <a:ext cx="338400" cy="316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7315200" y="3962520"/>
            <a:ext cx="635040" cy="633240"/>
            <a:chOff x="7315200" y="3962520"/>
            <a:chExt cx="635040" cy="633240"/>
          </a:xfrm>
        </p:grpSpPr>
        <p:sp>
          <p:nvSpPr>
            <p:cNvPr id="571" name=""/>
            <p:cNvSpPr/>
            <p:nvPr/>
          </p:nvSpPr>
          <p:spPr>
            <a:xfrm>
              <a:off x="7315200" y="3962520"/>
              <a:ext cx="635040" cy="63324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7484400" y="4142880"/>
              <a:ext cx="296640" cy="316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84400" y="4142880"/>
              <a:ext cx="338400" cy="316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2382840" y="1486080"/>
            <a:ext cx="749160" cy="802440"/>
            <a:chOff x="2382840" y="1486080"/>
            <a:chExt cx="749160" cy="802440"/>
          </a:xfrm>
        </p:grpSpPr>
        <p:sp>
          <p:nvSpPr>
            <p:cNvPr id="575" name=""/>
            <p:cNvSpPr/>
            <p:nvPr/>
          </p:nvSpPr>
          <p:spPr>
            <a:xfrm>
              <a:off x="2455560" y="1524240"/>
              <a:ext cx="676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382840" y="1486080"/>
              <a:ext cx="749160" cy="6933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2382840" y="4000680"/>
            <a:ext cx="749160" cy="802440"/>
            <a:chOff x="2382840" y="4000680"/>
            <a:chExt cx="749160" cy="802440"/>
          </a:xfrm>
        </p:grpSpPr>
        <p:sp>
          <p:nvSpPr>
            <p:cNvPr id="578" name=""/>
            <p:cNvSpPr/>
            <p:nvPr/>
          </p:nvSpPr>
          <p:spPr>
            <a:xfrm>
              <a:off x="2455560" y="4038840"/>
              <a:ext cx="676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382840" y="4000680"/>
              <a:ext cx="749160" cy="6933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2413080" y="5257800"/>
            <a:ext cx="635040" cy="633240"/>
            <a:chOff x="2413080" y="5257800"/>
            <a:chExt cx="635040" cy="633240"/>
          </a:xfrm>
        </p:grpSpPr>
        <p:sp>
          <p:nvSpPr>
            <p:cNvPr id="581" name=""/>
            <p:cNvSpPr/>
            <p:nvPr/>
          </p:nvSpPr>
          <p:spPr>
            <a:xfrm>
              <a:off x="2413080" y="5257800"/>
              <a:ext cx="635040" cy="63324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2582280" y="5438160"/>
              <a:ext cx="296640" cy="316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82280" y="5438160"/>
              <a:ext cx="338400" cy="316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3200400" y="1523880"/>
            <a:ext cx="3048120" cy="56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tionalizable 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sh Equilibr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200400" y="2743200"/>
            <a:ext cx="3048120" cy="56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tionalizable 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sh Equilibr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200400" y="4222800"/>
            <a:ext cx="3048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yesian- Nash Equilibr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2438280" y="2719440"/>
            <a:ext cx="635040" cy="633240"/>
            <a:chOff x="2438280" y="2719440"/>
            <a:chExt cx="635040" cy="633240"/>
          </a:xfrm>
        </p:grpSpPr>
        <p:sp>
          <p:nvSpPr>
            <p:cNvPr id="588" name=""/>
            <p:cNvSpPr/>
            <p:nvPr/>
          </p:nvSpPr>
          <p:spPr>
            <a:xfrm>
              <a:off x="2438280" y="2719440"/>
              <a:ext cx="635040" cy="63324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2607480" y="2899800"/>
              <a:ext cx="296640" cy="316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607480" y="2899800"/>
              <a:ext cx="338400" cy="316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9D59-0D15-4CBD-800D-B8B39C3AB6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4572000" y="5675400"/>
            <a:ext cx="4148280" cy="461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14400" y="260280"/>
            <a:ext cx="7620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Nash Equilibrium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3044880" y="966960"/>
                <a:ext cx="2746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4" name=""/>
          <p:cNvSpPr/>
          <p:nvPr/>
        </p:nvSpPr>
        <p:spPr>
          <a:xfrm>
            <a:off x="380880" y="1295280"/>
            <a:ext cx="8534520" cy="3124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all players are rational and intelligent then each player   would want to choose the pure strategy that maximizes his expected payoff for a given profile of his rival’s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startegy profile                                          is a Nash equilibrium iff  for each player     strategy     is best response to  his rival strategy profile    </a:t>
            </a: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3276720" y="3022560"/>
                <a:ext cx="32493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107040" y="3479760"/>
                <a:ext cx="2937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191120" y="3860640"/>
                <a:ext cx="3999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635360" y="3510000"/>
                <a:ext cx="3207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'</m:t>
                    </m:r>
                    <m:r>
                      <m:t xml:space="preserve">i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1736640" y="4595760"/>
                <a:ext cx="53499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∀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∈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0" name=""/>
          <p:cNvSpPr/>
          <p:nvPr/>
        </p:nvSpPr>
        <p:spPr>
          <a:xfrm>
            <a:off x="5486400" y="5621400"/>
            <a:ext cx="24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66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cc6600"/>
                </a:solidFill>
                <a:latin typeface="Arial"/>
              </a:rPr>
              <a:t>J.F. Nash (1951)”</a:t>
            </a: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96CF-0272-419F-B028-DBAD9817FD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Nash Equilibrium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1828800" y="914400"/>
          <a:ext cx="5486040" cy="1860480"/>
        </p:xfrm>
        <a:graphic>
          <a:graphicData uri="http://schemas.openxmlformats.org/drawingml/2006/table">
            <a:tbl>
              <a:tblPr/>
              <a:tblGrid>
                <a:gridCol w="1237680"/>
                <a:gridCol w="1476360"/>
                <a:gridCol w="1474560"/>
                <a:gridCol w="1297440"/>
              </a:tblGrid>
              <a:tr h="3682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3" name=""/>
          <p:cNvSpPr/>
          <p:nvPr/>
        </p:nvSpPr>
        <p:spPr>
          <a:xfrm>
            <a:off x="1905120" y="1676520"/>
            <a:ext cx="52578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581280" y="1371600"/>
            <a:ext cx="457200" cy="13716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371600"/>
              <a:gd name="textAreaBottom" fmla="*/ 1349280 h 1371600"/>
            </a:gdLst>
            <a:ahLst/>
            <a:rect l="textAreaLeft" t="textAreaTop" r="textAreaRight" b="textAreaBottom"/>
            <a:pathLst>
              <a:path w="21600" h="64766">
                <a:moveTo>
                  <a:pt x="3600" y="0"/>
                </a:moveTo>
                <a:arcTo wR="3600" hR="3600" stAng="16200000" swAng="-5400000"/>
                <a:lnTo>
                  <a:pt x="0" y="61166"/>
                </a:lnTo>
                <a:arcTo wR="3600" hR="3600" stAng="10800000" swAng="-5400000"/>
                <a:lnTo>
                  <a:pt x="18000" y="64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2438280"/>
            <a:ext cx="525780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400800" y="1371600"/>
            <a:ext cx="457200" cy="13716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371600"/>
              <a:gd name="textAreaBottom" fmla="*/ 1349280 h 1371600"/>
            </a:gdLst>
            <a:ahLst/>
            <a:rect l="textAreaLeft" t="textAreaTop" r="textAreaRight" b="textAreaBottom"/>
            <a:pathLst>
              <a:path w="21600" h="64766">
                <a:moveTo>
                  <a:pt x="3600" y="0"/>
                </a:moveTo>
                <a:arcTo wR="3600" hR="3600" stAng="16200000" swAng="-5400000"/>
                <a:lnTo>
                  <a:pt x="0" y="61166"/>
                </a:lnTo>
                <a:arcTo wR="3600" hR="3600" stAng="10800000" swAng="-5400000"/>
                <a:lnTo>
                  <a:pt x="18000" y="64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901800" cy="123192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1219320"/>
            <a:ext cx="1067040" cy="123804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380880" y="2666880"/>
            <a:ext cx="8534520" cy="3124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file                   is the unique Nash equilibr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reas rationalizability only specifies which strategies are supposed to be reasonable possibilities, a Nash equilibrium pinpoints a particular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ry strategy that is part of a Nash equilibrium profile is rationali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1905120" y="2895480"/>
                <a:ext cx="1441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403D-63D5-496F-B2F7-C9ADACCB20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533520" y="1143000"/>
            <a:ext cx="7086600" cy="60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>
              <a:lnSpc>
                <a:spcPct val="11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Multiple Nash Equilibrium</a:t>
            </a:r>
            <a:r>
              <a:rPr b="0" i="1" lang="en-US" sz="2400" spc="-1" strike="noStrike">
                <a:solidFill>
                  <a:srgbClr val="0066ff"/>
                </a:solidFill>
                <a:latin typeface="Arial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attle of Sex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1828800" y="2362320"/>
          <a:ext cx="5867280" cy="1917720"/>
        </p:xfrm>
        <a:graphic>
          <a:graphicData uri="http://schemas.openxmlformats.org/drawingml/2006/table">
            <a:tbl>
              <a:tblPr/>
              <a:tblGrid>
                <a:gridCol w="1915920"/>
                <a:gridCol w="2052720"/>
                <a:gridCol w="189864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sb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tball Ma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pping Cen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tball Ma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,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pping Cen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4267080" y="3276720"/>
            <a:ext cx="11430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248520" y="3809880"/>
            <a:ext cx="114300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Discussion of Nash Equilibrium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9D9E-8C86-42AB-BB69-FD8A693D511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533520" y="762120"/>
            <a:ext cx="822960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>
              <a:lnSpc>
                <a:spcPct val="11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(Weakly) Pareto Efficient Outcome:</a:t>
            </a:r>
            <a:r>
              <a:rPr b="0" i="1" lang="en-US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 outcome of a game is Pareto efficient iff there is no other outcome that would make all players better of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Inefficient Nash Equilibrium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Prisoners’ Dilem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2209680" y="2743200"/>
          <a:ext cx="5181480" cy="1917720"/>
        </p:xfrm>
        <a:graphic>
          <a:graphicData uri="http://schemas.openxmlformats.org/drawingml/2006/table">
            <a:tbl>
              <a:tblPr/>
              <a:tblGrid>
                <a:gridCol w="1692000"/>
                <a:gridCol w="1965600"/>
                <a:gridCol w="152388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one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oner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Conf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Conf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,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6,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-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5,-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8" name=""/>
          <p:cNvSpPr/>
          <p:nvPr/>
        </p:nvSpPr>
        <p:spPr>
          <a:xfrm>
            <a:off x="6019920" y="4191120"/>
            <a:ext cx="10666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981080" y="4648320"/>
            <a:ext cx="6858000" cy="1523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Monotype Corsiva"/>
              </a:rPr>
              <a:t>It illustrates how people’s rational pursuit of the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Monotype Corsiva"/>
              </a:rPr>
              <a:t>individual best interests can lead to outcomes that are bad for all of the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Discussion of Nash Equilibrium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4537-A8BC-437E-ADB9-64A91B68BCE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1676520" y="4419720"/>
            <a:ext cx="844560" cy="115560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380880" y="762120"/>
            <a:ext cx="8458200" cy="3886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>
              <a:lnSpc>
                <a:spcPct val="9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Nash Equilibrium as a necessary condition if there is  a unique predicted outcome to a game: </a:t>
            </a:r>
            <a:r>
              <a:rPr b="0" i="1" lang="en-US" sz="24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there is a unique Nash equilibrium in a game, then rational intelligent players will understand this and they must play this. In other words, no player would gain anything by deviating from t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y players should play the unique Nash equilibriu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2666880" y="4387680"/>
          <a:ext cx="5105520" cy="1825920"/>
        </p:xfrm>
        <a:graphic>
          <a:graphicData uri="http://schemas.openxmlformats.org/drawingml/2006/table">
            <a:tbl>
              <a:tblPr/>
              <a:tblGrid>
                <a:gridCol w="1152720"/>
                <a:gridCol w="1373040"/>
                <a:gridCol w="1371600"/>
                <a:gridCol w="1208160"/>
              </a:tblGrid>
              <a:tr h="3682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48720" y="4343400"/>
            <a:ext cx="871560" cy="10098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5257800" y="5486400"/>
            <a:ext cx="11430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Discussion of Nash Equilibrium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6C40-2941-4EBE-BA5B-09771F65B69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1676520" y="4419720"/>
            <a:ext cx="844560" cy="115560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Discussion of Nash Equilibrium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0880" y="762120"/>
            <a:ext cx="8458200" cy="3886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>
              <a:lnSpc>
                <a:spcPct val="9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Nash Equilibrium as a necessary condition if there is  a unique predicted outcome to a game: </a:t>
            </a:r>
            <a:r>
              <a:rPr b="0" i="1" lang="en-US" sz="24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there is a unique Nash equilibrium in a game, then rational intelligent players will understand this and they must play this. In other words, no player would gain anything by deviating from t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y players should play the unique Nash equilibriu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2666880" y="4387680"/>
          <a:ext cx="5105520" cy="1825920"/>
        </p:xfrm>
        <a:graphic>
          <a:graphicData uri="http://schemas.openxmlformats.org/drawingml/2006/table">
            <a:tbl>
              <a:tblPr/>
              <a:tblGrid>
                <a:gridCol w="1152720"/>
                <a:gridCol w="1373040"/>
                <a:gridCol w="1371600"/>
                <a:gridCol w="1208160"/>
              </a:tblGrid>
              <a:tr h="3682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1" name="" descr=""/>
          <p:cNvPicPr/>
          <p:nvPr/>
        </p:nvPicPr>
        <p:blipFill>
          <a:blip r:embed="rId2"/>
          <a:stretch/>
        </p:blipFill>
        <p:spPr>
          <a:xfrm>
            <a:off x="7848720" y="4343400"/>
            <a:ext cx="871560" cy="100980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5257800" y="5486400"/>
            <a:ext cx="11430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7593-D631-4D71-848D-AF73622CD3C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82760" y="376200"/>
            <a:ext cx="817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What Is Strategic Interdependence ?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1371600"/>
            <a:ext cx="8077320" cy="4016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layer would like the game to end in an outcome     which gives him as large a payoff as po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layer’s welfare depends not only on her own action but also on the actions of the other play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tions that are best for her to take may depend on what she expects the other players to d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D409-AC4A-4D6F-998C-B1AE327F7C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4572000" y="5675400"/>
            <a:ext cx="4148280" cy="461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0880" y="914400"/>
            <a:ext cx="8458200" cy="4495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>
              <a:lnSpc>
                <a:spcPct val="9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The Focal- Point Effect: </a:t>
            </a:r>
            <a:r>
              <a:rPr b="0" i="1" lang="en-US" sz="24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a game with multiple equilibria, what might cause players to expect each other to implement some specific equilibri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chelling argued that, in such games, anything that tends to focus the players’ attention on one equilibrium may make them all them expect it and hence fulfill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focal equilibrium is an equilibrium that has some property conspicuously distinguishes it from all other equilib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Discussion of Nash Equilibrium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86400" y="5621400"/>
            <a:ext cx="24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66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cc6600"/>
                </a:solidFill>
                <a:latin typeface="Arial"/>
              </a:rPr>
              <a:t>Schelling (1960)”</a:t>
            </a: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A1AC-AB45-4807-A2FF-D247E29D268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380880" y="914400"/>
            <a:ext cx="8458200" cy="4495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>
              <a:lnSpc>
                <a:spcPct val="9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Nash Equilibrium as a Stable Social Convention: </a:t>
            </a:r>
            <a:r>
              <a:rPr b="0" i="1" lang="en-US" sz="24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particular way to play a game might arise over time if the game is played repeatedly and some stable social convention emer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an outcome is to become a stable social convention, it must be Nash equilibrium. If it were not, then individual would deviate from it as soon as it began to eme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Discussion of Nash Equilibrium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6848-CC01-4A9F-BD60-7544FBD7DE1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"/>
          <p:cNvGrpSpPr/>
          <p:nvPr/>
        </p:nvGrpSpPr>
        <p:grpSpPr>
          <a:xfrm>
            <a:off x="2036880" y="1009800"/>
            <a:ext cx="749160" cy="1842840"/>
            <a:chOff x="2036880" y="1009800"/>
            <a:chExt cx="749160" cy="1842840"/>
          </a:xfrm>
        </p:grpSpPr>
        <p:sp>
          <p:nvSpPr>
            <p:cNvPr id="640" name=""/>
            <p:cNvSpPr/>
            <p:nvPr/>
          </p:nvSpPr>
          <p:spPr>
            <a:xfrm>
              <a:off x="2152800" y="1758960"/>
              <a:ext cx="571320" cy="58428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155680" y="1413000"/>
              <a:ext cx="63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036880" y="1009800"/>
              <a:ext cx="747720" cy="1842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654120" y="317520"/>
            <a:ext cx="7862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A Game of Incomplete Informa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534960" y="893880"/>
            <a:ext cx="7896240" cy="5128920"/>
            <a:chOff x="534960" y="893880"/>
            <a:chExt cx="7896240" cy="5128920"/>
          </a:xfrm>
        </p:grpSpPr>
        <p:sp>
          <p:nvSpPr>
            <p:cNvPr id="645" name=""/>
            <p:cNvSpPr/>
            <p:nvPr/>
          </p:nvSpPr>
          <p:spPr>
            <a:xfrm>
              <a:off x="2378160" y="1208160"/>
              <a:ext cx="114480" cy="115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c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351240" y="1968480"/>
              <a:ext cx="112680" cy="115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c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652920" y="1208160"/>
              <a:ext cx="114480" cy="115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c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2492640" y="1260360"/>
              <a:ext cx="1160280" cy="6480"/>
            </a:xfrm>
            <a:prstGeom prst="line">
              <a:avLst/>
            </a:prstGeom>
            <a:ln w="28440">
              <a:solidFill>
                <a:srgbClr val="fc7e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768840" y="1260360"/>
              <a:ext cx="1209600" cy="6480"/>
            </a:xfrm>
            <a:prstGeom prst="line">
              <a:avLst/>
            </a:prstGeom>
            <a:ln w="28440">
              <a:solidFill>
                <a:srgbClr val="fc7e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492640" y="1325520"/>
              <a:ext cx="858600" cy="700200"/>
            </a:xfrm>
            <a:prstGeom prst="line">
              <a:avLst/>
            </a:prstGeom>
            <a:ln w="28440">
              <a:solidFill>
                <a:srgbClr val="fc7e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768840" y="1325520"/>
              <a:ext cx="806400" cy="569880"/>
            </a:xfrm>
            <a:prstGeom prst="line">
              <a:avLst/>
            </a:prstGeom>
            <a:ln w="28440">
              <a:solidFill>
                <a:srgbClr val="fc7e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978440" y="1208160"/>
              <a:ext cx="112680" cy="115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c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575240" y="1895400"/>
              <a:ext cx="114480" cy="115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c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732400" y="915840"/>
              <a:ext cx="85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7e00"/>
                  </a:solidFill>
                  <a:latin typeface="Arial"/>
                </a:rPr>
                <a:t>Rai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2455800">
              <a:off x="2714040" y="1444320"/>
              <a:ext cx="8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7e00"/>
                  </a:solidFill>
                  <a:latin typeface="Arial"/>
                </a:rPr>
                <a:t>Fo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1971600">
              <a:off x="3941280" y="1355400"/>
              <a:ext cx="86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7e00"/>
                  </a:solidFill>
                  <a:latin typeface="Arial"/>
                </a:rPr>
                <a:t>P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59360" y="893880"/>
              <a:ext cx="86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7e00"/>
                  </a:solidFill>
                  <a:latin typeface="Arial"/>
                </a:rPr>
                <a:t>M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62480" y="18511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7e00"/>
                  </a:solidFill>
                  <a:latin typeface="Arial"/>
                </a:rPr>
                <a:t>(-1,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689720" y="1816200"/>
              <a:ext cx="85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7e00"/>
                  </a:solidFill>
                  <a:latin typeface="Arial"/>
                </a:rPr>
                <a:t>(1,-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340760" y="1722600"/>
              <a:ext cx="8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7e00"/>
                  </a:solidFill>
                  <a:latin typeface="Arial"/>
                </a:rPr>
                <a:t>(-2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5092920" y="1260360"/>
              <a:ext cx="1268280" cy="6480"/>
            </a:xfrm>
            <a:prstGeom prst="line">
              <a:avLst/>
            </a:prstGeom>
            <a:ln w="28440">
              <a:solidFill>
                <a:srgbClr val="fc7e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92920" y="1325520"/>
              <a:ext cx="749160" cy="511200"/>
            </a:xfrm>
            <a:prstGeom prst="line">
              <a:avLst/>
            </a:prstGeom>
            <a:ln w="28440">
              <a:solidFill>
                <a:srgbClr val="fc7e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842080" y="1836720"/>
              <a:ext cx="114480" cy="115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c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07240" y="1816200"/>
              <a:ext cx="85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7e00"/>
                  </a:solidFill>
                  <a:latin typeface="Arial"/>
                </a:rPr>
                <a:t>(1,-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1823400">
              <a:off x="5208120" y="1375920"/>
              <a:ext cx="103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7e00"/>
                  </a:solidFill>
                  <a:latin typeface="Arial"/>
                </a:rPr>
                <a:t>Corr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475680" y="1319040"/>
              <a:ext cx="806400" cy="517680"/>
            </a:xfrm>
            <a:prstGeom prst="line">
              <a:avLst/>
            </a:prstGeom>
            <a:ln w="28440">
              <a:solidFill>
                <a:srgbClr val="fc7e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458120" y="1203480"/>
              <a:ext cx="112680" cy="11556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c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282080" y="1836720"/>
              <a:ext cx="112680" cy="115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c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363000" y="1203480"/>
              <a:ext cx="112680" cy="11556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c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51600" y="893880"/>
              <a:ext cx="12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7e00"/>
                  </a:solidFill>
                  <a:latin typeface="Arial"/>
                </a:rPr>
                <a:t>Incorr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6475680" y="1260360"/>
              <a:ext cx="979200" cy="6480"/>
            </a:xfrm>
            <a:prstGeom prst="line">
              <a:avLst/>
            </a:prstGeom>
            <a:ln w="28440">
              <a:solidFill>
                <a:srgbClr val="fc7e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361200" y="893880"/>
              <a:ext cx="12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7e00"/>
                  </a:solidFill>
                  <a:latin typeface="Arial"/>
                </a:rPr>
                <a:t>Incorr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1823400">
              <a:off x="6590880" y="1375920"/>
              <a:ext cx="103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7e00"/>
                  </a:solidFill>
                  <a:latin typeface="Arial"/>
                </a:rPr>
                <a:t>Corr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570800" y="1065240"/>
              <a:ext cx="8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7e00"/>
                  </a:solidFill>
                  <a:latin typeface="Arial"/>
                </a:rPr>
                <a:t>(-2,-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378160" y="5011560"/>
              <a:ext cx="114480" cy="115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351240" y="5772240"/>
              <a:ext cx="112680" cy="115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652920" y="5011560"/>
              <a:ext cx="114480" cy="115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2492640" y="5064120"/>
              <a:ext cx="1160280" cy="648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3768840" y="5064120"/>
              <a:ext cx="1209600" cy="648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492640" y="5129280"/>
              <a:ext cx="858600" cy="70020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768840" y="5129280"/>
              <a:ext cx="806400" cy="56988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978440" y="5011560"/>
              <a:ext cx="112680" cy="115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575240" y="5699160"/>
              <a:ext cx="114480" cy="115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732400" y="4719600"/>
              <a:ext cx="85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Rai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455800">
              <a:off x="2714040" y="5248080"/>
              <a:ext cx="8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Fo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1971600">
              <a:off x="3941280" y="5159160"/>
              <a:ext cx="86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P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059360" y="4697280"/>
              <a:ext cx="86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M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462480" y="56545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(-1,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689720" y="5619600"/>
              <a:ext cx="85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(1,-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40760" y="5526000"/>
              <a:ext cx="8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(-2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5092920" y="5064120"/>
              <a:ext cx="1268280" cy="648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092920" y="5129280"/>
              <a:ext cx="749160" cy="51120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842080" y="5640480"/>
              <a:ext cx="114480" cy="115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907240" y="5619600"/>
              <a:ext cx="85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(1,-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1823400">
              <a:off x="5208120" y="5179680"/>
              <a:ext cx="103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Corr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475680" y="5122800"/>
              <a:ext cx="806400" cy="51768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458120" y="5006880"/>
              <a:ext cx="112680" cy="115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282080" y="5640480"/>
              <a:ext cx="112680" cy="115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363000" y="5006880"/>
              <a:ext cx="112680" cy="115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151600" y="4697280"/>
              <a:ext cx="12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Incorr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475680" y="5064120"/>
              <a:ext cx="979200" cy="648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361200" y="4697280"/>
              <a:ext cx="12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Incorr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1823400">
              <a:off x="6590880" y="5179680"/>
              <a:ext cx="103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Corr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570800" y="4869000"/>
              <a:ext cx="8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(-2,-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378160" y="2476440"/>
              <a:ext cx="114480" cy="115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351240" y="3236760"/>
              <a:ext cx="112680" cy="115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652920" y="2476440"/>
              <a:ext cx="114480" cy="115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2492640" y="2528640"/>
              <a:ext cx="1160280" cy="612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3768840" y="2528640"/>
              <a:ext cx="1209600" cy="612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492640" y="2593800"/>
              <a:ext cx="858600" cy="70020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768840" y="2593800"/>
              <a:ext cx="806400" cy="57024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78440" y="2476440"/>
              <a:ext cx="112680" cy="115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67320" y="3139920"/>
              <a:ext cx="114480" cy="115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32400" y="2184480"/>
              <a:ext cx="85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Rai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2455800">
              <a:off x="2714040" y="2712600"/>
              <a:ext cx="8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Fo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1971600">
              <a:off x="3941280" y="2623680"/>
              <a:ext cx="86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P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059360" y="2162160"/>
              <a:ext cx="86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M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462480" y="31194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(-1,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689720" y="3084480"/>
              <a:ext cx="85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(1,-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340760" y="2990880"/>
              <a:ext cx="8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(-2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5092920" y="2528640"/>
              <a:ext cx="1268280" cy="612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092920" y="2593800"/>
              <a:ext cx="749160" cy="51120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842080" y="3105000"/>
              <a:ext cx="114480" cy="115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891400" y="3083040"/>
              <a:ext cx="85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(1,-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1823400">
              <a:off x="5200200" y="2622240"/>
              <a:ext cx="103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Corr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75680" y="2587680"/>
              <a:ext cx="806400" cy="51732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458120" y="2471760"/>
              <a:ext cx="112680" cy="115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282080" y="3105000"/>
              <a:ext cx="112680" cy="115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353280" y="2449440"/>
              <a:ext cx="112680" cy="115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151600" y="2162160"/>
              <a:ext cx="12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Incorr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6475680" y="2528640"/>
              <a:ext cx="979200" cy="612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361200" y="2162160"/>
              <a:ext cx="12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Incorr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1823400">
              <a:off x="6590880" y="2644560"/>
              <a:ext cx="103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Corr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570800" y="2333520"/>
              <a:ext cx="8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(-2,-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78160" y="3801960"/>
              <a:ext cx="114480" cy="115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51240" y="4562640"/>
              <a:ext cx="112680" cy="11556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652920" y="3801960"/>
              <a:ext cx="114480" cy="115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2492640" y="3832200"/>
              <a:ext cx="116028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3768840" y="3854160"/>
              <a:ext cx="120960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492640" y="3919680"/>
              <a:ext cx="858600" cy="6998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768840" y="3919680"/>
              <a:ext cx="806400" cy="569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70520" y="3774960"/>
              <a:ext cx="112680" cy="115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575240" y="4489560"/>
              <a:ext cx="114480" cy="115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732400" y="3510000"/>
              <a:ext cx="85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Rai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2455800">
              <a:off x="2714040" y="4038120"/>
              <a:ext cx="8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Fo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971600">
              <a:off x="3941280" y="3949200"/>
              <a:ext cx="86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P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059360" y="3487680"/>
              <a:ext cx="86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M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462480" y="44449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(-1,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689720" y="4410000"/>
              <a:ext cx="85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(1,-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340760" y="4316400"/>
              <a:ext cx="8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(-2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5085000" y="3832200"/>
              <a:ext cx="126828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085000" y="3948120"/>
              <a:ext cx="749160" cy="511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834160" y="4408560"/>
              <a:ext cx="114480" cy="115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950080" y="4410000"/>
              <a:ext cx="85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(1,-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1823400">
              <a:off x="5208120" y="3970080"/>
              <a:ext cx="103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Corr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75680" y="3913200"/>
              <a:ext cx="806400" cy="517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458120" y="3797280"/>
              <a:ext cx="112680" cy="115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282080" y="4430880"/>
              <a:ext cx="112680" cy="11556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353280" y="3774960"/>
              <a:ext cx="112680" cy="115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151600" y="3487680"/>
              <a:ext cx="12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Incorr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6475680" y="3854160"/>
              <a:ext cx="97920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361200" y="3487680"/>
              <a:ext cx="12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Incorr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1823400">
              <a:off x="6590880" y="3970080"/>
              <a:ext cx="103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Corr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570800" y="3659040"/>
              <a:ext cx="8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(-2,-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34960" y="3371760"/>
              <a:ext cx="114480" cy="115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50880" y="3486240"/>
              <a:ext cx="1727280" cy="155556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08120" y="3429000"/>
              <a:ext cx="1670040" cy="403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650880" y="2565360"/>
              <a:ext cx="1727280" cy="80640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594000" y="1297080"/>
              <a:ext cx="1784160" cy="2016000"/>
            </a:xfrm>
            <a:prstGeom prst="line">
              <a:avLst/>
            </a:prstGeom>
            <a:ln w="28440">
              <a:solidFill>
                <a:srgbClr val="fc7e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18636600">
              <a:off x="985320" y="1945800"/>
              <a:ext cx="85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7e00"/>
                  </a:solidFill>
                  <a:latin typeface="Arial"/>
                </a:rPr>
                <a:t>(Y,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20212800">
              <a:off x="1168920" y="25650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(Y,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775200">
              <a:off x="1226880" y="33127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(N,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2478600">
              <a:off x="1110600" y="38890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(N,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2095560" y="3544920"/>
            <a:ext cx="691920" cy="1959120"/>
            <a:chOff x="2095560" y="3544920"/>
            <a:chExt cx="691920" cy="1959120"/>
          </a:xfrm>
        </p:grpSpPr>
        <p:sp>
          <p:nvSpPr>
            <p:cNvPr id="775" name=""/>
            <p:cNvSpPr/>
            <p:nvPr/>
          </p:nvSpPr>
          <p:spPr>
            <a:xfrm>
              <a:off x="2152800" y="4292640"/>
              <a:ext cx="571320" cy="58428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095560" y="3544920"/>
              <a:ext cx="691920" cy="195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152800" y="3948120"/>
              <a:ext cx="63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3421080" y="2162160"/>
            <a:ext cx="690480" cy="1959120"/>
            <a:chOff x="3421080" y="2162160"/>
            <a:chExt cx="690480" cy="1959120"/>
          </a:xfrm>
        </p:grpSpPr>
        <p:sp>
          <p:nvSpPr>
            <p:cNvPr id="779" name=""/>
            <p:cNvSpPr/>
            <p:nvPr/>
          </p:nvSpPr>
          <p:spPr>
            <a:xfrm>
              <a:off x="3483000" y="2901960"/>
              <a:ext cx="571320" cy="584280"/>
            </a:xfrm>
            <a:prstGeom prst="smileyFace">
              <a:avLst>
                <a:gd name="adj" fmla="val 928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421080" y="2162160"/>
              <a:ext cx="690480" cy="195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479760" y="2565360"/>
              <a:ext cx="63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"/>
          <p:cNvSpPr/>
          <p:nvPr/>
        </p:nvSpPr>
        <p:spPr>
          <a:xfrm>
            <a:off x="3481560" y="873000"/>
            <a:ext cx="6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478320" y="5157720"/>
            <a:ext cx="6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4745160" y="1009800"/>
            <a:ext cx="749160" cy="1842840"/>
            <a:chOff x="4745160" y="1009800"/>
            <a:chExt cx="749160" cy="1842840"/>
          </a:xfrm>
        </p:grpSpPr>
        <p:sp>
          <p:nvSpPr>
            <p:cNvPr id="785" name=""/>
            <p:cNvSpPr/>
            <p:nvPr/>
          </p:nvSpPr>
          <p:spPr>
            <a:xfrm>
              <a:off x="4861080" y="1758960"/>
              <a:ext cx="571320" cy="58428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863960" y="1413000"/>
              <a:ext cx="63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745160" y="1009800"/>
              <a:ext cx="747720" cy="1842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687920" y="3659040"/>
            <a:ext cx="749160" cy="1843200"/>
            <a:chOff x="4687920" y="3659040"/>
            <a:chExt cx="749160" cy="1843200"/>
          </a:xfrm>
        </p:grpSpPr>
        <p:sp>
          <p:nvSpPr>
            <p:cNvPr id="789" name=""/>
            <p:cNvSpPr/>
            <p:nvPr/>
          </p:nvSpPr>
          <p:spPr>
            <a:xfrm>
              <a:off x="4803840" y="4408560"/>
              <a:ext cx="571320" cy="58428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807080" y="4062240"/>
              <a:ext cx="63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687920" y="3659040"/>
              <a:ext cx="747720" cy="184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6073920" y="2219400"/>
            <a:ext cx="744480" cy="1958760"/>
            <a:chOff x="6073920" y="2219400"/>
            <a:chExt cx="744480" cy="1958760"/>
          </a:xfrm>
        </p:grpSpPr>
        <p:sp>
          <p:nvSpPr>
            <p:cNvPr id="793" name=""/>
            <p:cNvSpPr/>
            <p:nvPr/>
          </p:nvSpPr>
          <p:spPr>
            <a:xfrm>
              <a:off x="6130800" y="2844720"/>
              <a:ext cx="571680" cy="584280"/>
            </a:xfrm>
            <a:prstGeom prst="smileyFace">
              <a:avLst>
                <a:gd name="adj" fmla="val 928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073920" y="2219400"/>
              <a:ext cx="690480" cy="1958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188040" y="2485800"/>
              <a:ext cx="63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6130800" y="513540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130800" y="133344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C9DA-E33C-41FD-BA3C-5230842CFA8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5435640" y="5675400"/>
            <a:ext cx="3168720" cy="461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54120" y="317520"/>
            <a:ext cx="7862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Games of Incomplete Informa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838840" y="5680080"/>
            <a:ext cx="276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66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cc6600"/>
                </a:solidFill>
                <a:latin typeface="Arial"/>
              </a:rPr>
              <a:t>Harsanyi (1967-68)”</a:t>
            </a: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81680" y="836640"/>
            <a:ext cx="781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Bayesian Form: A Generalization of Strategic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Bayesian-form game is any     of the 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re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4805280" y="1241280"/>
                <a:ext cx="3999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1812960" y="1643040"/>
                <a:ext cx="46926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1778040" y="2449440"/>
                <a:ext cx="6019920" cy="31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et of players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,2</m:t>
                            </m:r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et of possible types of player 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ype profiles of the players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-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⋯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⋯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⋯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E399-0A54-47B1-A62B-2AB2FAE4A88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1490760" y="549360"/>
                <a:ext cx="7229520" cy="547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et of actions for player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Set of pure startegies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for player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after he learns his type   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ction profile of the players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⋯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⋯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⋯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S</m:t>
                        </m:r>
                        <m:r>
                          <m:t xml:space="preserve">×</m:t>
                        </m:r>
                        <m:r>
                          <m:t xml:space="preserve">Θ</m:t>
                        </m:r>
                        <m:r>
                          <m:t xml:space="preserve">→</m:t>
                        </m:r>
                        <m:r>
                          <m:t xml:space="preserve">ℜ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ected utility payoff to player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if the profil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of players' action is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profil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of players' type is 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Θ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elief of player 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7E27-E6EE-4A7D-9403-9853C792C74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654120" y="317520"/>
            <a:ext cx="7862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Games of Incomplete Informa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39640" y="1146240"/>
            <a:ext cx="8294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Consistent Beliefs 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e say that beliefs           are consistent iff there exists some common prior probability distribution P in        such that each players’ beliefs given his type are just the conditional probability distribution that can be computed from the prior distribution by Bayes’s formula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8" name=""/>
              <p:cNvSpPr txBox="1"/>
              <p:nvPr/>
            </p:nvSpPr>
            <p:spPr>
              <a:xfrm>
                <a:off x="6399360" y="1160640"/>
                <a:ext cx="880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2786040" y="1932120"/>
                <a:ext cx="5349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2670120" y="3602160"/>
                <a:ext cx="3444840" cy="13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25B7-99FC-410A-828C-00156D048E9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609480" y="1611360"/>
                <a:ext cx="6249960" cy="36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ure startegy of player 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∀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is a pure strategy for player 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trategy profile of players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-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⋯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⋯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2" name="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Bayesian Nash Equilibrium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4952880" y="1371600"/>
            <a:ext cx="1143000" cy="1066680"/>
            <a:chOff x="4952880" y="1371600"/>
            <a:chExt cx="1143000" cy="1066680"/>
          </a:xfrm>
        </p:grpSpPr>
        <p:sp>
          <p:nvSpPr>
            <p:cNvPr id="814" name=""/>
            <p:cNvSpPr/>
            <p:nvPr/>
          </p:nvSpPr>
          <p:spPr>
            <a:xfrm>
              <a:off x="4952880" y="1371600"/>
              <a:ext cx="114300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343840" y="1786320"/>
              <a:ext cx="39600" cy="3924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34200" y="1608480"/>
              <a:ext cx="39600" cy="388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24560" y="1994040"/>
              <a:ext cx="39600" cy="3924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83360" y="1549440"/>
              <a:ext cx="39600" cy="3924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84320" y="1756800"/>
              <a:ext cx="39600" cy="3924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735160" y="1845000"/>
              <a:ext cx="39600" cy="3924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253480" y="2112120"/>
              <a:ext cx="39600" cy="3924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43840" y="1934280"/>
              <a:ext cx="39600" cy="3924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524560" y="1519200"/>
              <a:ext cx="39600" cy="3924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93720" y="1815840"/>
              <a:ext cx="39600" cy="388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434200" y="2141640"/>
              <a:ext cx="39600" cy="3924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855400" y="1815840"/>
              <a:ext cx="39600" cy="388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765040" y="2053440"/>
              <a:ext cx="39600" cy="3924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644800" y="2201400"/>
              <a:ext cx="39600" cy="3924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705280" y="1578960"/>
              <a:ext cx="39600" cy="388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6172200" y="1444680"/>
                <a:ext cx="12193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1" name=""/>
          <p:cNvSpPr/>
          <p:nvPr/>
        </p:nvSpPr>
        <p:spPr>
          <a:xfrm>
            <a:off x="6172200" y="1905120"/>
            <a:ext cx="12193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52240" y="914400"/>
            <a:ext cx="17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3" name=""/>
              <p:cNvSpPr txBox="1"/>
              <p:nvPr/>
            </p:nvSpPr>
            <p:spPr>
              <a:xfrm>
                <a:off x="5334120" y="838080"/>
                <a:ext cx="5270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7924680" y="9144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5" name=""/>
          <p:cNvSpPr/>
          <p:nvPr/>
        </p:nvSpPr>
        <p:spPr>
          <a:xfrm>
            <a:off x="7543800" y="1371600"/>
            <a:ext cx="1143000" cy="10666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934400" y="1785960"/>
            <a:ext cx="41040" cy="3960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8024760" y="1608120"/>
            <a:ext cx="39600" cy="3960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8115480" y="1994040"/>
            <a:ext cx="39600" cy="3960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873920" y="1549440"/>
            <a:ext cx="39600" cy="3960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8175600" y="1757520"/>
            <a:ext cx="39600" cy="3960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8326440" y="1844640"/>
            <a:ext cx="39600" cy="3960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7845480" y="2112840"/>
            <a:ext cx="39600" cy="3816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934400" y="1935000"/>
            <a:ext cx="41040" cy="3816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8115480" y="1519200"/>
            <a:ext cx="39600" cy="3960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785000" y="1816200"/>
            <a:ext cx="39960" cy="3960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8024760" y="2141640"/>
            <a:ext cx="39600" cy="3960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447040" y="1816200"/>
            <a:ext cx="39600" cy="3960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56680" y="2054160"/>
            <a:ext cx="39600" cy="3816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236080" y="2201760"/>
            <a:ext cx="39600" cy="3816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8296200" y="1579680"/>
            <a:ext cx="39600" cy="38160"/>
          </a:xfrm>
          <a:prstGeom prst="ellipse">
            <a:avLst/>
          </a:pr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9285-C690-45E8-AD7D-4597A3E644A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1066680" y="1523880"/>
                <a:ext cx="6848640" cy="34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L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ℜ</m:t>
                        </m:r>
                      </m:e>
                      <m:e/>
                      <m:e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layer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's expected payoff i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his own type is 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pure strategy profile f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players is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⋯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2" name="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Bayesian Nash Equilibrium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52240" y="914400"/>
            <a:ext cx="17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72CB-AE32-492D-BCA4-F780F23D308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Bayesian Nash Equilibrium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57200" y="914400"/>
            <a:ext cx="845820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strategy profile                                      constitutes a (pure strategy) Bayesian Nash equilibrium of the game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f it is Nash equilibrium for the game                                 . That i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a (pure strategy) Bayesian Nash equilibrium each player must be playing a best response action to the conditional distribution of his opponents actions for each type that he may end up h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3292560" y="1041480"/>
                <a:ext cx="29559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533520" y="1981080"/>
                <a:ext cx="44640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1905120" y="2514600"/>
                <a:ext cx="2612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600200" y="3147840"/>
                <a:ext cx="51656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≥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∀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∈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5E23-229F-4F07-BDC1-2ECEB3E1FBD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Elementary Text on Game Theory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85800" y="1143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752480" y="1066680"/>
            <a:ext cx="69343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ip D. Straffin (1993), “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me Theory and Strate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, The Mathematical Association of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Mas-Collel, Michael D. Whinston, and Jerry R. Green (1995), “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croeconomic The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, Oxford University P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n Neumann, J. and O. Morgenstern (1944), “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Theory of Games and Economic Behavi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, Princeton University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ce R.D. and H. Raiffa (1957), “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mes and Decisions: Introduction and Critical Surv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, New York, Wi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more K. (1992), “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n and Games: A Text on Game The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, Lexington Mass.: D.C. Hea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864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915840" cy="1219320"/>
          </a:xfrm>
          <a:prstGeom prst="rect">
            <a:avLst/>
          </a:prstGeom>
          <a:ln w="0">
            <a:noFill/>
          </a:ln>
        </p:spPr>
      </p:pic>
      <p:pic>
        <p:nvPicPr>
          <p:cNvPr id="865" name="" descr=""/>
          <p:cNvPicPr/>
          <p:nvPr/>
        </p:nvPicPr>
        <p:blipFill>
          <a:blip r:embed="rId3"/>
          <a:stretch/>
        </p:blipFill>
        <p:spPr>
          <a:xfrm>
            <a:off x="609480" y="3352680"/>
            <a:ext cx="838440" cy="82404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4"/>
          <a:stretch/>
        </p:blipFill>
        <p:spPr>
          <a:xfrm>
            <a:off x="685800" y="4419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F1EB-6B11-45FD-8952-9E821FCC22A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30492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Solution Concept for Strategic Form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143000"/>
            <a:ext cx="8534160" cy="4114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simplest kind of solution concept is one that specifies, for each player    , a set       that is a nonempty subset of       and is interpreted as the set of strategies that player    might reasonably be expected  to 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ry player is rational and intelligent. So if every player   is expected to choose a strategy in     ,then every player   should understand this fact and use some strategy that is best response to some profile in   </a:t>
            </a: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514600" y="1828800"/>
                <a:ext cx="3207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'</m:t>
                    </m:r>
                    <m:r>
                      <m:t xml:space="preserve">i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822840" y="1828800"/>
                <a:ext cx="2934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8204040" y="1805040"/>
                <a:ext cx="346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7527960" y="2216160"/>
                <a:ext cx="3207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'</m:t>
                    </m:r>
                    <m:r>
                      <m:t xml:space="preserve">i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8342280" y="3429000"/>
                <a:ext cx="4017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'</m:t>
                    </m:r>
                    <m:r>
                      <m:t xml:space="preserve">j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291280" y="3809880"/>
                <a:ext cx="347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8137440" y="3816360"/>
                <a:ext cx="3207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'</m:t>
                    </m:r>
                    <m:r>
                      <m:t xml:space="preserve">i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906800" y="4624560"/>
                <a:ext cx="427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5633-28EF-4F28-B20F-66F508FD46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Advanced Text on Game Theory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85800" y="1143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752480" y="1066680"/>
            <a:ext cx="6858000" cy="52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. Myerson (1992), “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me Theory: Analysis of Conflic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, Harvard  University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Fudenberg, and J. Tirole (1991), “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me The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, MIT Pres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J. Osborne,  A. Rubinstein (1994), “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Course in Game The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, MIT P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 Gibbons (1992), “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me Theory for Applied Economis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, Princeton University P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38080" cy="114300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/>
          <p:cNvPicPr/>
          <p:nvPr/>
        </p:nvPicPr>
        <p:blipFill>
          <a:blip r:embed="rId3"/>
          <a:stretch/>
        </p:blipFill>
        <p:spPr>
          <a:xfrm>
            <a:off x="533520" y="3546360"/>
            <a:ext cx="838080" cy="79704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4"/>
          <a:stretch/>
        </p:blipFill>
        <p:spPr>
          <a:xfrm>
            <a:off x="609480" y="45720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BC50-5662-44B5-8DD2-0CEE25C3C26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Game Theory Professional Journals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676520" y="990720"/>
            <a:ext cx="6858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International Journal of Game The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66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Games and Economic Behavi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66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International Game Theory Review (IGTR)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905040" cy="1361880"/>
          </a:xfrm>
          <a:prstGeom prst="rect">
            <a:avLst/>
          </a:prstGeom>
          <a:ln w="0">
            <a:noFill/>
          </a:ln>
        </p:spPr>
      </p:pic>
      <p:pic>
        <p:nvPicPr>
          <p:cNvPr id="877" name="" descr=""/>
          <p:cNvPicPr/>
          <p:nvPr/>
        </p:nvPicPr>
        <p:blipFill>
          <a:blip r:embed="rId2"/>
          <a:stretch/>
        </p:blipFill>
        <p:spPr>
          <a:xfrm>
            <a:off x="685800" y="2540160"/>
            <a:ext cx="825480" cy="1269720"/>
          </a:xfrm>
          <a:prstGeom prst="rect">
            <a:avLst/>
          </a:prstGeom>
          <a:ln w="0">
            <a:noFill/>
          </a:ln>
        </p:spPr>
      </p:pic>
      <p:pic>
        <p:nvPicPr>
          <p:cNvPr id="878" name="" descr=""/>
          <p:cNvPicPr/>
          <p:nvPr/>
        </p:nvPicPr>
        <p:blipFill>
          <a:blip r:embed="rId3"/>
          <a:stretch/>
        </p:blipFill>
        <p:spPr>
          <a:xfrm>
            <a:off x="762120" y="4057560"/>
            <a:ext cx="761760" cy="104796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Your gateway to Science"/>
          <p:cNvPicPr/>
          <p:nvPr/>
        </p:nvPicPr>
        <p:blipFill>
          <a:blip r:embed="rId4"/>
          <a:stretch/>
        </p:blipFill>
        <p:spPr>
          <a:xfrm>
            <a:off x="1752480" y="2971800"/>
            <a:ext cx="1047960" cy="93348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5"/>
          <a:stretch/>
        </p:blipFill>
        <p:spPr>
          <a:xfrm>
            <a:off x="2057400" y="1371600"/>
            <a:ext cx="1171440" cy="77148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/>
          <p:cNvPicPr/>
          <p:nvPr/>
        </p:nvPicPr>
        <p:blipFill>
          <a:blip r:embed="rId6"/>
          <a:stretch/>
        </p:blipFill>
        <p:spPr>
          <a:xfrm>
            <a:off x="1905120" y="4724280"/>
            <a:ext cx="4000320" cy="46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980D-4363-44A5-B28F-C1AE3DB9602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1676520" y="992160"/>
            <a:ext cx="6858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Public Cho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66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Econometr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66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Annals of Mathemat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903240" cy="1371600"/>
          </a:xfrm>
          <a:prstGeom prst="rect">
            <a:avLst/>
          </a:prstGeom>
          <a:ln w="0">
            <a:noFill/>
          </a:ln>
        </p:spPr>
      </p:pic>
      <p:pic>
        <p:nvPicPr>
          <p:cNvPr id="884" name="" descr="Kluwer Online"/>
          <p:cNvPicPr/>
          <p:nvPr/>
        </p:nvPicPr>
        <p:blipFill>
          <a:blip r:embed="rId2"/>
          <a:stretch/>
        </p:blipFill>
        <p:spPr>
          <a:xfrm>
            <a:off x="1666800" y="1371600"/>
            <a:ext cx="2600280" cy="466560"/>
          </a:xfrm>
          <a:prstGeom prst="rect">
            <a:avLst/>
          </a:prstGeom>
          <a:ln w="0">
            <a:noFill/>
          </a:ln>
        </p:spPr>
      </p:pic>
      <p:pic>
        <p:nvPicPr>
          <p:cNvPr id="885" name="" descr="Econometric Society"/>
          <p:cNvPicPr/>
          <p:nvPr/>
        </p:nvPicPr>
        <p:blipFill>
          <a:blip r:embed="rId3"/>
          <a:stretch/>
        </p:blipFill>
        <p:spPr>
          <a:xfrm>
            <a:off x="609480" y="2514600"/>
            <a:ext cx="941400" cy="1371600"/>
          </a:xfrm>
          <a:prstGeom prst="rect">
            <a:avLst/>
          </a:prstGeom>
          <a:ln w="0">
            <a:noFill/>
          </a:ln>
        </p:spPr>
      </p:pic>
      <p:pic>
        <p:nvPicPr>
          <p:cNvPr id="886" name="" descr=""/>
          <p:cNvPicPr/>
          <p:nvPr/>
        </p:nvPicPr>
        <p:blipFill>
          <a:blip r:embed="rId4"/>
          <a:stretch/>
        </p:blipFill>
        <p:spPr>
          <a:xfrm>
            <a:off x="2095560" y="3152880"/>
            <a:ext cx="799920" cy="27612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The Annals of Mathematics Cover Image"/>
          <p:cNvPicPr/>
          <p:nvPr/>
        </p:nvPicPr>
        <p:blipFill>
          <a:blip r:embed="rId5"/>
          <a:stretch/>
        </p:blipFill>
        <p:spPr>
          <a:xfrm>
            <a:off x="609480" y="4114800"/>
            <a:ext cx="885960" cy="129528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6"/>
          <a:stretch/>
        </p:blipFill>
        <p:spPr>
          <a:xfrm>
            <a:off x="1828800" y="4714920"/>
            <a:ext cx="3029040" cy="61920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Game Theory Professional Journals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92EE-8A23-48A0-B125-22A1437248D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" descr="Journal Cover"/>
          <p:cNvPicPr/>
          <p:nvPr/>
        </p:nvPicPr>
        <p:blipFill>
          <a:blip r:embed="rId1"/>
          <a:stretch/>
        </p:blipFill>
        <p:spPr>
          <a:xfrm>
            <a:off x="533520" y="1066680"/>
            <a:ext cx="853920" cy="1219320"/>
          </a:xfrm>
          <a:prstGeom prst="rect">
            <a:avLst/>
          </a:prstGeom>
          <a:ln w="0">
            <a:noFill/>
          </a:ln>
        </p:spPr>
      </p:pic>
      <p:sp>
        <p:nvSpPr>
          <p:cNvPr id="891" name=""/>
          <p:cNvSpPr/>
          <p:nvPr/>
        </p:nvSpPr>
        <p:spPr>
          <a:xfrm>
            <a:off x="1828800" y="1036800"/>
            <a:ext cx="6858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Journal of Mathematical Econom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66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Journal of Economic The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66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Management Sci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" descr="Your gateway to Science"/>
          <p:cNvPicPr/>
          <p:nvPr/>
        </p:nvPicPr>
        <p:blipFill>
          <a:blip r:embed="rId2"/>
          <a:stretch/>
        </p:blipFill>
        <p:spPr>
          <a:xfrm>
            <a:off x="2057400" y="1428840"/>
            <a:ext cx="1047600" cy="93348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Journal Cover"/>
          <p:cNvPicPr/>
          <p:nvPr/>
        </p:nvPicPr>
        <p:blipFill>
          <a:blip r:embed="rId3"/>
          <a:stretch/>
        </p:blipFill>
        <p:spPr>
          <a:xfrm>
            <a:off x="519120" y="2514600"/>
            <a:ext cx="895320" cy="129528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Your gateway to Science"/>
          <p:cNvPicPr/>
          <p:nvPr/>
        </p:nvPicPr>
        <p:blipFill>
          <a:blip r:embed="rId4"/>
          <a:stretch/>
        </p:blipFill>
        <p:spPr>
          <a:xfrm>
            <a:off x="2076480" y="3124080"/>
            <a:ext cx="1047600" cy="933480"/>
          </a:xfrm>
          <a:prstGeom prst="rect">
            <a:avLst/>
          </a:prstGeom>
          <a:ln w="0">
            <a:noFill/>
          </a:ln>
        </p:spPr>
      </p:pic>
      <p:pic>
        <p:nvPicPr>
          <p:cNvPr id="895" name="" descr=""/>
          <p:cNvPicPr/>
          <p:nvPr/>
        </p:nvPicPr>
        <p:blipFill>
          <a:blip r:embed="rId5"/>
          <a:stretch/>
        </p:blipFill>
        <p:spPr>
          <a:xfrm>
            <a:off x="533520" y="4038480"/>
            <a:ext cx="901440" cy="1219320"/>
          </a:xfrm>
          <a:prstGeom prst="rect">
            <a:avLst/>
          </a:prstGeom>
          <a:ln w="0">
            <a:noFill/>
          </a:ln>
        </p:spPr>
      </p:pic>
      <p:pic>
        <p:nvPicPr>
          <p:cNvPr id="896" name="" descr=""/>
          <p:cNvPicPr/>
          <p:nvPr/>
        </p:nvPicPr>
        <p:blipFill>
          <a:blip r:embed="rId6"/>
          <a:stretch/>
        </p:blipFill>
        <p:spPr>
          <a:xfrm>
            <a:off x="2286000" y="4876920"/>
            <a:ext cx="3429000" cy="63792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Game Theory Professional Journals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EF6B-3C3E-42D3-9B94-5ADB287B76E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1828800" y="1131840"/>
            <a:ext cx="68580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Mathematics of Operations Resear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2209680" y="1571760"/>
            <a:ext cx="3429000" cy="6379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Game Theory Professional Journals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90324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E2FF-83B8-42F9-918A-C7090EAB40B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A Chronology of Game Theory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85800" y="129528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09480" y="2666880"/>
            <a:ext cx="1676520" cy="6098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1149480" cy="152424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2133720" y="1095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French economist </a:t>
            </a:r>
            <a:r>
              <a:rPr b="1" i="1" lang="en-US" sz="1800" spc="-1" strike="noStrike" u="sng">
                <a:solidFill>
                  <a:srgbClr val="cc6600"/>
                </a:solidFill>
                <a:uFillTx/>
                <a:latin typeface="Arial"/>
              </a:rPr>
              <a:t>“Augustin Cournot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proposed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concept of monopoly,duoploy, oligopoly, and perfet competition. He utilizes a solution concept that is a restricted version of the Nash equilibr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" descr="Portrait of Charles Darwin"/>
          <p:cNvPicPr/>
          <p:nvPr/>
        </p:nvPicPr>
        <p:blipFill>
          <a:blip r:embed="rId2"/>
          <a:stretch/>
        </p:blipFill>
        <p:spPr>
          <a:xfrm>
            <a:off x="914400" y="3352680"/>
            <a:ext cx="1042920" cy="1447920"/>
          </a:xfrm>
          <a:prstGeom prst="rect">
            <a:avLst/>
          </a:prstGeom>
          <a:ln w="0">
            <a:noFill/>
          </a:ln>
        </p:spPr>
      </p:pic>
      <p:sp>
        <p:nvSpPr>
          <p:cNvPr id="908" name=""/>
          <p:cNvSpPr/>
          <p:nvPr/>
        </p:nvSpPr>
        <p:spPr>
          <a:xfrm>
            <a:off x="609480" y="487692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057400" y="33814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English biologist  </a:t>
            </a:r>
            <a:r>
              <a:rPr b="1" i="1" lang="en-US" sz="1800" spc="-1" strike="noStrike" u="sng">
                <a:solidFill>
                  <a:srgbClr val="cc6600"/>
                </a:solidFill>
                <a:uFillTx/>
                <a:latin typeface="Arial"/>
              </a:rPr>
              <a:t>“Charles Darwin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gives first (implicitly) game theoretic argument that natural selection will act to equalize the sex r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in his book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Origin of Species by Means of Natural Selection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BB9C-E1E3-46EA-B70F-E2FF0E48DE6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" descr=""/>
          <p:cNvPicPr/>
          <p:nvPr/>
        </p:nvPicPr>
        <p:blipFill>
          <a:blip r:embed="rId1"/>
          <a:stretch/>
        </p:blipFill>
        <p:spPr>
          <a:xfrm>
            <a:off x="822240" y="1066680"/>
            <a:ext cx="1006560" cy="1219320"/>
          </a:xfrm>
          <a:prstGeom prst="rect">
            <a:avLst/>
          </a:prstGeom>
          <a:ln w="0">
            <a:noFill/>
          </a:ln>
        </p:spPr>
      </p:pic>
      <p:sp>
        <p:nvSpPr>
          <p:cNvPr id="911" name=""/>
          <p:cNvSpPr/>
          <p:nvPr/>
        </p:nvSpPr>
        <p:spPr>
          <a:xfrm>
            <a:off x="533520" y="23623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057400" y="101916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 mathematician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i="1" lang="en-US" sz="1800" spc="-1" strike="noStrike" u="sng">
                <a:solidFill>
                  <a:srgbClr val="cc6600"/>
                </a:solidFill>
                <a:uFillTx/>
                <a:latin typeface="Arial"/>
              </a:rPr>
              <a:t>“Ernst Zermelo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roposed the first theorem of the game theory - “In chess either white can force a win, or black can force a win, or both sides can force at least a draw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33520" y="480060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1-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" descr="Emile Borel"/>
          <p:cNvPicPr/>
          <p:nvPr/>
        </p:nvPicPr>
        <p:blipFill>
          <a:blip r:embed="rId2"/>
          <a:stretch/>
        </p:blipFill>
        <p:spPr>
          <a:xfrm>
            <a:off x="762120" y="3124080"/>
            <a:ext cx="1199880" cy="1600200"/>
          </a:xfrm>
          <a:prstGeom prst="rect">
            <a:avLst/>
          </a:prstGeom>
          <a:ln w="0">
            <a:noFill/>
          </a:ln>
        </p:spPr>
      </p:pic>
      <p:sp>
        <p:nvSpPr>
          <p:cNvPr id="915" name=""/>
          <p:cNvSpPr/>
          <p:nvPr/>
        </p:nvSpPr>
        <p:spPr>
          <a:xfrm>
            <a:off x="2057400" y="31528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cc6600"/>
                </a:solidFill>
                <a:uFillTx/>
                <a:latin typeface="Arial"/>
              </a:rPr>
              <a:t>“</a:t>
            </a:r>
            <a:r>
              <a:rPr b="1" i="1" lang="en-US" sz="1800" spc="-1" strike="noStrike" u="sng">
                <a:solidFill>
                  <a:srgbClr val="cc6600"/>
                </a:solidFill>
                <a:uFillTx/>
                <a:latin typeface="Arial"/>
              </a:rPr>
              <a:t>Emile Borel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was perhaps the first to define the notion of games of strategy. He proposed the notion of mixed strategy and also provided a minimax solution for two-person games with three or five possible strateg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A Chronology of Game Theory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53A6-2E85-4B42-972F-CB950F70A44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A Chronology of Game Theory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" descr="John von Neumann"/>
          <p:cNvPicPr/>
          <p:nvPr/>
        </p:nvPicPr>
        <p:blipFill>
          <a:blip r:embed="rId1"/>
          <a:stretch/>
        </p:blipFill>
        <p:spPr>
          <a:xfrm>
            <a:off x="762120" y="990720"/>
            <a:ext cx="1155600" cy="129528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533520" y="23623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981080" y="9428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cc6600"/>
                </a:solidFill>
                <a:uFillTx/>
                <a:latin typeface="Arial"/>
              </a:rPr>
              <a:t>“</a:t>
            </a:r>
            <a:r>
              <a:rPr b="1" i="1" lang="en-US" sz="1800" spc="-1" strike="noStrike" u="sng">
                <a:solidFill>
                  <a:srgbClr val="cc6600"/>
                </a:solidFill>
                <a:uFillTx/>
                <a:latin typeface="Arial"/>
              </a:rPr>
              <a:t>John von Neumann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ved minimax theorem for finite games. He also introduced extensive form of ga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33520" y="4724280"/>
            <a:ext cx="1676160" cy="6098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" descr="Oskar Morgenstern"/>
          <p:cNvPicPr/>
          <p:nvPr/>
        </p:nvPicPr>
        <p:blipFill>
          <a:blip r:embed="rId2"/>
          <a:stretch/>
        </p:blipFill>
        <p:spPr>
          <a:xfrm>
            <a:off x="838080" y="3124080"/>
            <a:ext cx="1067040" cy="1447920"/>
          </a:xfrm>
          <a:prstGeom prst="rect">
            <a:avLst/>
          </a:prstGeom>
          <a:ln w="0">
            <a:noFill/>
          </a:ln>
        </p:spPr>
      </p:pic>
      <p:sp>
        <p:nvSpPr>
          <p:cNvPr id="923" name=""/>
          <p:cNvSpPr/>
          <p:nvPr/>
        </p:nvSpPr>
        <p:spPr>
          <a:xfrm>
            <a:off x="1905120" y="316872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cc6600"/>
                </a:solidFill>
                <a:uFillTx/>
                <a:latin typeface="Arial"/>
              </a:rPr>
              <a:t>“</a:t>
            </a:r>
            <a:r>
              <a:rPr b="1" i="1" lang="en-US" sz="1800" spc="-1" strike="noStrike" u="sng">
                <a:solidFill>
                  <a:srgbClr val="cc6600"/>
                </a:solidFill>
                <a:uFillTx/>
                <a:latin typeface="Arial"/>
              </a:rPr>
              <a:t>John von Neumann and Oskar Morgenstern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xt “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ory of Games and Economic Behavi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is most widely recognized as the first formal treatment of game theory. The concepts were later generalized by John N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905120" y="160020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People do not believe that mathematics is simple, it is only because they do not realize how complicated life 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- JvN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192E-86B5-4FAB-824B-611B58F2EA2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A Chronology of Game Theory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57200" y="3352680"/>
            <a:ext cx="1676520" cy="6098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0-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1509840" cy="213372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2209680" y="1066680"/>
            <a:ext cx="6934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cc6600"/>
                </a:solidFill>
                <a:uFillTx/>
                <a:latin typeface="Arial"/>
              </a:rPr>
              <a:t>“</a:t>
            </a:r>
            <a:r>
              <a:rPr b="1" i="1" lang="en-US" sz="1800" spc="-1" strike="noStrike" u="sng">
                <a:solidFill>
                  <a:srgbClr val="cc6600"/>
                </a:solidFill>
                <a:uFillTx/>
                <a:latin typeface="Arial"/>
              </a:rPr>
              <a:t>John Nash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: The “father” of  non cooperative game theory, proved the existence of the Nash equilibrium in a broad class of games in his doctoral dissertation at  Princeton Univers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four papers are assumed to be seminal contribution to both  non cooperative game theory and bargaining theo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209680" y="286380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librium Points in N-Person Games (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cooperative Games (19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rgaining Problem (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Person cooperative Games (195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A92B-5B12-4A84-9F8E-8637E59E382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A Chronology of Game Theory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457200" y="961920"/>
            <a:ext cx="1905120" cy="141768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609480" y="251460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2-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362320" y="914400"/>
            <a:ext cx="655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cc6600"/>
                </a:solidFill>
                <a:uFillTx/>
                <a:latin typeface="Arial"/>
              </a:rPr>
              <a:t>“</a:t>
            </a:r>
            <a:r>
              <a:rPr b="1" i="1" lang="en-US" sz="1800" spc="-1" strike="noStrike" u="sng">
                <a:solidFill>
                  <a:srgbClr val="cc6600"/>
                </a:solidFill>
                <a:uFillTx/>
                <a:latin typeface="Arial"/>
              </a:rPr>
              <a:t>Lloyd Shapley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the notion of the “Core” as a general solution concept of cooperative gam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his paper “ A Value for N-Person Games” characterized a solution concept that associates with each coalitional game a unique outcome. This is known as the Shapely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his paper “Stochastic Games”  he combines the Bellmen’s dynamic programming with two person zero sum g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33520" y="46483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4-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286000" y="388620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cc6600"/>
                </a:solidFill>
                <a:uFillTx/>
                <a:latin typeface="Arial"/>
              </a:rPr>
              <a:t>“</a:t>
            </a:r>
            <a:r>
              <a:rPr b="1" i="1" lang="en-US" sz="1800" spc="-1" strike="noStrike" u="sng">
                <a:solidFill>
                  <a:srgbClr val="cc6600"/>
                </a:solidFill>
                <a:uFillTx/>
                <a:latin typeface="Arial"/>
              </a:rPr>
              <a:t>Rufus Isaacs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: Developed differential games. These games grew out of the problem of forming and solving military pursuit gam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CD14-B684-4B6E-A7D1-E7001006E83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934320" y="3086280"/>
            <a:ext cx="1609560" cy="1485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19720" y="3124080"/>
            <a:ext cx="1609560" cy="1486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90920" y="3162240"/>
            <a:ext cx="1609560" cy="1486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85800" y="3162240"/>
            <a:ext cx="1609560" cy="1486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3520" y="30492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Solution Concept for Strategic Form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408400" y="1523880"/>
            <a:ext cx="1630080" cy="1676520"/>
            <a:chOff x="2408400" y="1523880"/>
            <a:chExt cx="1630080" cy="1676520"/>
          </a:xfrm>
        </p:grpSpPr>
        <p:sp>
          <p:nvSpPr>
            <p:cNvPr id="110" name=""/>
            <p:cNvSpPr/>
            <p:nvPr/>
          </p:nvSpPr>
          <p:spPr>
            <a:xfrm>
              <a:off x="2408400" y="1600200"/>
              <a:ext cx="1630080" cy="16002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89280" y="1981080"/>
              <a:ext cx="877680" cy="8384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03680" y="2057400"/>
              <a:ext cx="77760" cy="856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3094200" y="1523880"/>
                  <a:ext cx="34128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3094200" y="1981080"/>
                  <a:ext cx="31716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"/>
            <p:cNvSpPr/>
            <p:nvPr/>
          </p:nvSpPr>
          <p:spPr>
            <a:xfrm>
              <a:off x="3855960" y="2286000"/>
              <a:ext cx="7452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94200" y="2971800"/>
              <a:ext cx="7452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22800" y="2514600"/>
              <a:ext cx="7452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41560" y="2438280"/>
              <a:ext cx="74520" cy="7164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51400" y="2819520"/>
              <a:ext cx="75960" cy="7596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37000" y="2209680"/>
              <a:ext cx="74520" cy="7164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37000" y="2590920"/>
              <a:ext cx="7452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70160" y="2666880"/>
              <a:ext cx="74520" cy="7164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57200" y="1523880"/>
            <a:ext cx="1630080" cy="1676520"/>
            <a:chOff x="457200" y="1523880"/>
            <a:chExt cx="1630080" cy="1676520"/>
          </a:xfrm>
        </p:grpSpPr>
        <p:grpSp>
          <p:nvGrpSpPr>
            <p:cNvPr id="124" name=""/>
            <p:cNvGrpSpPr/>
            <p:nvPr/>
          </p:nvGrpSpPr>
          <p:grpSpPr>
            <a:xfrm>
              <a:off x="457200" y="1600200"/>
              <a:ext cx="1630080" cy="1600200"/>
              <a:chOff x="457200" y="1600200"/>
              <a:chExt cx="1630080" cy="1600200"/>
            </a:xfrm>
          </p:grpSpPr>
          <p:sp>
            <p:nvSpPr>
              <p:cNvPr id="125" name=""/>
              <p:cNvSpPr/>
              <p:nvPr/>
            </p:nvSpPr>
            <p:spPr>
              <a:xfrm>
                <a:off x="457200" y="1600200"/>
                <a:ext cx="1630080" cy="16002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38080" y="1981080"/>
                <a:ext cx="878040" cy="83808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1143000" y="2209680"/>
              <a:ext cx="7596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6680" y="2438280"/>
              <a:ext cx="7452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1066680" y="1523880"/>
                  <a:ext cx="36684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1295280" y="2057400"/>
                  <a:ext cx="29376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1" name=""/>
            <p:cNvSpPr/>
            <p:nvPr/>
          </p:nvSpPr>
          <p:spPr>
            <a:xfrm>
              <a:off x="1295280" y="2895480"/>
              <a:ext cx="7452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28800" y="2361960"/>
              <a:ext cx="74520" cy="7164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5800" y="2590560"/>
              <a:ext cx="74520" cy="7164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95280" y="2438280"/>
              <a:ext cx="7452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47560" y="1752480"/>
              <a:ext cx="74880" cy="7128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1760" y="1904760"/>
              <a:ext cx="74880" cy="7164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343400" y="1523880"/>
            <a:ext cx="1630440" cy="1671480"/>
            <a:chOff x="4343400" y="1523880"/>
            <a:chExt cx="1630440" cy="1671480"/>
          </a:xfrm>
        </p:grpSpPr>
        <p:grpSp>
          <p:nvGrpSpPr>
            <p:cNvPr id="138" name=""/>
            <p:cNvGrpSpPr/>
            <p:nvPr/>
          </p:nvGrpSpPr>
          <p:grpSpPr>
            <a:xfrm>
              <a:off x="4343400" y="1595160"/>
              <a:ext cx="1630440" cy="1600200"/>
              <a:chOff x="4343400" y="1595160"/>
              <a:chExt cx="1630440" cy="1600200"/>
            </a:xfrm>
          </p:grpSpPr>
          <p:sp>
            <p:nvSpPr>
              <p:cNvPr id="139" name=""/>
              <p:cNvSpPr/>
              <p:nvPr/>
            </p:nvSpPr>
            <p:spPr>
              <a:xfrm>
                <a:off x="4343400" y="1595160"/>
                <a:ext cx="1630440" cy="16002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24280" y="1976040"/>
                <a:ext cx="878040" cy="8384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5029200" y="2280960"/>
              <a:ext cx="68400" cy="7920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5029200" y="1523880"/>
                  <a:ext cx="34308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" name=""/>
                <p:cNvSpPr txBox="1"/>
                <p:nvPr/>
              </p:nvSpPr>
              <p:spPr>
                <a:xfrm>
                  <a:off x="5181480" y="2052360"/>
                  <a:ext cx="29376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4" name=""/>
            <p:cNvSpPr/>
            <p:nvPr/>
          </p:nvSpPr>
          <p:spPr>
            <a:xfrm>
              <a:off x="4952880" y="2509560"/>
              <a:ext cx="68400" cy="7920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57800" y="2509560"/>
              <a:ext cx="68400" cy="7920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2128680"/>
              <a:ext cx="68400" cy="7920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15000" y="2509560"/>
              <a:ext cx="68400" cy="7920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357280"/>
              <a:ext cx="68400" cy="7920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57800" y="2966760"/>
              <a:ext cx="68400" cy="7920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62720" y="2814480"/>
              <a:ext cx="68040" cy="7920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48320" y="2661840"/>
              <a:ext cx="68040" cy="7956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76920" y="2890440"/>
              <a:ext cx="68040" cy="7956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48320" y="2052360"/>
              <a:ext cx="68040" cy="7920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6920" y="1900080"/>
              <a:ext cx="68040" cy="79200"/>
            </a:xfrm>
            <a:prstGeom prst="ellipse">
              <a:avLst/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7010280" y="1521000"/>
            <a:ext cx="1630440" cy="1679400"/>
            <a:chOff x="7010280" y="1521000"/>
            <a:chExt cx="1630440" cy="1679400"/>
          </a:xfrm>
        </p:grpSpPr>
        <p:sp>
          <p:nvSpPr>
            <p:cNvPr id="156" name=""/>
            <p:cNvSpPr/>
            <p:nvPr/>
          </p:nvSpPr>
          <p:spPr>
            <a:xfrm>
              <a:off x="7010280" y="1597320"/>
              <a:ext cx="1630440" cy="1600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91520" y="1978200"/>
              <a:ext cx="877680" cy="83808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48720" y="2511720"/>
              <a:ext cx="69840" cy="7920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7696080" y="1521000"/>
                  <a:ext cx="34308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7848720" y="2054520"/>
                  <a:ext cx="31752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1" name=""/>
            <p:cNvSpPr/>
            <p:nvPr/>
          </p:nvSpPr>
          <p:spPr>
            <a:xfrm>
              <a:off x="7315200" y="2816280"/>
              <a:ext cx="69840" cy="7956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2283120"/>
              <a:ext cx="69840" cy="7920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6080" y="2587680"/>
              <a:ext cx="69840" cy="7956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38880" y="2511720"/>
              <a:ext cx="69840" cy="7920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58200" y="3121200"/>
              <a:ext cx="69840" cy="7920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96080" y="3044880"/>
              <a:ext cx="69840" cy="7956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0120" y="2435400"/>
              <a:ext cx="69840" cy="7920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01000" y="3044880"/>
              <a:ext cx="69840" cy="7956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229600" y="2816280"/>
              <a:ext cx="69840" cy="7956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458200" y="3121200"/>
              <a:ext cx="69840" cy="7920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81880" y="2511720"/>
              <a:ext cx="69840" cy="7920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81880" y="2206800"/>
              <a:ext cx="69840" cy="7920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2920" y="2206800"/>
              <a:ext cx="69840" cy="7920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1901880"/>
              <a:ext cx="69840" cy="7956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91520" y="1978200"/>
              <a:ext cx="69840" cy="7920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762120" y="48006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86600" y="4815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er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95680" y="4815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48150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27FD-21B5-4732-86D3-B0F21FE7A2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609480" y="228600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2-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286000" y="9907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cc6600"/>
                </a:solidFill>
                <a:uFillTx/>
                <a:latin typeface="Arial"/>
              </a:rPr>
              <a:t>“</a:t>
            </a:r>
            <a:r>
              <a:rPr b="1" i="1" lang="en-US" sz="1800" spc="-1" strike="noStrike" u="sng">
                <a:solidFill>
                  <a:srgbClr val="cc6600"/>
                </a:solidFill>
                <a:uFillTx/>
                <a:latin typeface="Arial"/>
              </a:rPr>
              <a:t>Folk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: proposed the first theorem of repeated gam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09480" y="480060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209680" y="319896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cc6600"/>
                </a:solidFill>
                <a:uFillTx/>
                <a:latin typeface="Arial"/>
              </a:rPr>
              <a:t>“</a:t>
            </a:r>
            <a:r>
              <a:rPr b="1" i="1" lang="en-US" sz="1800" spc="-1" strike="noStrike" u="sng">
                <a:solidFill>
                  <a:srgbClr val="cc6600"/>
                </a:solidFill>
                <a:uFillTx/>
                <a:latin typeface="Arial"/>
              </a:rPr>
              <a:t>R.C. Lewontin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: He first explicitly applied the game theory to evolutionary  biology in his book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“Evolution and the Theory of Gmae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A Chronology of Game Theory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5294-FCBF-4D9C-BC97-94B1D5F4D74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533520" y="2209680"/>
            <a:ext cx="1676160" cy="6098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33520" y="46483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A Chronology of Game Theory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209680" y="9144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cc6600"/>
                </a:solidFill>
                <a:uFillTx/>
                <a:latin typeface="Arial"/>
              </a:rPr>
              <a:t>“</a:t>
            </a:r>
            <a:r>
              <a:rPr b="1" i="1" lang="en-US" sz="1800" spc="-1" strike="noStrike" u="sng">
                <a:solidFill>
                  <a:srgbClr val="cc6600"/>
                </a:solidFill>
                <a:uFillTx/>
                <a:latin typeface="Arial"/>
              </a:rPr>
              <a:t>D. Gale and L. Shapley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:  applied the game theory to address the problem of stability of marriage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981080" y="31687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cc6600"/>
                </a:solidFill>
                <a:uFillTx/>
                <a:latin typeface="Arial"/>
              </a:rPr>
              <a:t>“</a:t>
            </a:r>
            <a:r>
              <a:rPr b="1" i="1" lang="en-US" sz="1800" spc="-1" strike="noStrike" u="sng">
                <a:solidFill>
                  <a:srgbClr val="cc6600"/>
                </a:solidFill>
                <a:uFillTx/>
                <a:latin typeface="Arial"/>
              </a:rPr>
              <a:t>Martin Shubik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:  first applied the game theory to cost allocation and internal pricing in a firm with decentralized  decision making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" descr="shubik.gif (51695 bytes)"/>
          <p:cNvPicPr/>
          <p:nvPr/>
        </p:nvPicPr>
        <p:blipFill>
          <a:blip r:embed="rId1"/>
          <a:stretch/>
        </p:blipFill>
        <p:spPr>
          <a:xfrm>
            <a:off x="609480" y="3048120"/>
            <a:ext cx="1379520" cy="144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B3FF-5E6E-439E-B6F8-3B47DA165FB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533520" y="23623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67-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33520" y="46483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A Chronology of Game Theory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905120" y="103500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cc6600"/>
                </a:solidFill>
                <a:uFillTx/>
                <a:latin typeface="Arial"/>
              </a:rPr>
              <a:t>“</a:t>
            </a:r>
            <a:r>
              <a:rPr b="1" i="1" lang="en-US" sz="1800" spc="-1" strike="noStrike" u="sng">
                <a:solidFill>
                  <a:srgbClr val="cc6600"/>
                </a:solidFill>
                <a:uFillTx/>
                <a:latin typeface="Arial"/>
              </a:rPr>
              <a:t>John Harsanyi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: constructed the theory of games of incomplete information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981080" y="316872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cc6600"/>
                </a:solidFill>
                <a:uFillTx/>
                <a:latin typeface="Arial"/>
              </a:rPr>
              <a:t>“</a:t>
            </a:r>
            <a:r>
              <a:rPr b="1" i="1" lang="en-US" sz="1800" spc="-1" strike="noStrike" u="sng">
                <a:solidFill>
                  <a:srgbClr val="cc6600"/>
                </a:solidFill>
                <a:uFillTx/>
                <a:latin typeface="Arial"/>
              </a:rPr>
              <a:t>John Maynard Smith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:  first applied the game theory to cost allocation and internal pricing in a firm with decentralized  decision making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1"/>
          <a:stretch/>
        </p:blipFill>
        <p:spPr>
          <a:xfrm>
            <a:off x="912960" y="990720"/>
            <a:ext cx="915840" cy="129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5B36-4CC9-4446-9631-6EB2E4D4A8F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3520" y="30492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Solution Concept for Strategic Form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1371600"/>
            <a:ext cx="8204040" cy="432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>
              <a:lnSpc>
                <a:spcPct val="11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Strictly Dominated Strategy: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strategy    is strictly dominated for player    if     another strategy          such 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Strictly Dominant Strategy: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strategy     is strictly dominant for player     if it strictly dominates every other strategy i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044880" y="1119240"/>
                <a:ext cx="2746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537240" y="2362320"/>
                <a:ext cx="32076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'</m:t>
                    </m:r>
                    <m:r>
                      <m:t xml:space="preserve">i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209680" y="2336760"/>
                <a:ext cx="2937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086600" y="2421000"/>
                <a:ext cx="26676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905120" y="2690640"/>
                <a:ext cx="8557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∈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549520" y="3300480"/>
                <a:ext cx="38512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∀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∈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6564240" y="3886200"/>
                <a:ext cx="2937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429000" y="4343400"/>
                <a:ext cx="3207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'</m:t>
                    </m:r>
                    <m:r>
                      <m:t xml:space="preserve">i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286000" y="4724280"/>
                <a:ext cx="3459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E52B-F456-462D-9F0E-55F9E92139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762120" y="1523880"/>
          <a:ext cx="7772400" cy="3505320"/>
        </p:xfrm>
        <a:graphic>
          <a:graphicData uri="http://schemas.openxmlformats.org/drawingml/2006/table">
            <a:tbl>
              <a:tblPr/>
              <a:tblGrid>
                <a:gridCol w="2209680"/>
                <a:gridCol w="2286000"/>
                <a:gridCol w="3276720"/>
              </a:tblGrid>
              <a:tr h="515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oner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oner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Conf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044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Conf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,-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6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-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5,-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533520" y="30492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Prisoners Dilemma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895480"/>
            <a:ext cx="739116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2133720"/>
            <a:ext cx="2133360" cy="2819160"/>
          </a:xfrm>
          <a:custGeom>
            <a:avLst/>
            <a:gdLst>
              <a:gd name="textAreaLeft" fmla="*/ 104040 w 2133360"/>
              <a:gd name="textAreaRight" fmla="*/ 2029320 w 2133360"/>
              <a:gd name="textAreaTop" fmla="*/ 104040 h 2819160"/>
              <a:gd name="textAreaBottom" fmla="*/ 2715120 h 2819160"/>
            </a:gdLst>
            <a:ahLst/>
            <a:rect l="textAreaLeft" t="textAreaTop" r="textAreaRight" b="textAreaBottom"/>
            <a:pathLst>
              <a:path w="21600" h="28542">
                <a:moveTo>
                  <a:pt x="3600" y="0"/>
                </a:moveTo>
                <a:arcTo wR="3600" hR="3600" stAng="16200000" swAng="-5400000"/>
                <a:lnTo>
                  <a:pt x="0" y="24942"/>
                </a:lnTo>
                <a:arcTo wR="3600" hR="3600" stAng="10800000" swAng="-5400000"/>
                <a:lnTo>
                  <a:pt x="18000" y="285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B9CD-56FB-4B1E-9EBF-8BAE817964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1371600" y="1793880"/>
          <a:ext cx="6683400" cy="3311640"/>
        </p:xfrm>
        <a:graphic>
          <a:graphicData uri="http://schemas.openxmlformats.org/drawingml/2006/table">
            <a:tbl>
              <a:tblPr/>
              <a:tblGrid>
                <a:gridCol w="2227320"/>
                <a:gridCol w="2228760"/>
                <a:gridCol w="2227320"/>
              </a:tblGrid>
              <a:tr h="603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er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er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Example: Strictly Dominated Strategy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4495680"/>
            <a:ext cx="62481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24E7-43EC-4667-AEE7-0ABED4E513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133720" y="5410080"/>
            <a:ext cx="609588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522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Arial"/>
              </a:rPr>
              <a:t>Solution Concept for Strategic Form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317600"/>
            <a:ext cx="8204040" cy="432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>
              <a:lnSpc>
                <a:spcPct val="11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Weakly Dominated Strategy: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strategy    is weakly dominated for player    if     another strategy           such 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th strict inequality for s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Weakly Dominant Strategy: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strategy     is weakly dominant for player     if it weakly dominates every other strategy i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044880" y="966960"/>
                <a:ext cx="2746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553080" y="2139840"/>
                <a:ext cx="3207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'</m:t>
                    </m:r>
                    <m:r>
                      <m:t xml:space="preserve">i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133720" y="2057400"/>
                <a:ext cx="2934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7201080" y="2192400"/>
                <a:ext cx="2664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887480" y="2438280"/>
                <a:ext cx="8557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∈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514600" y="3124080"/>
                <a:ext cx="3824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∀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∈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564240" y="4089240"/>
                <a:ext cx="2937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413160" y="4502160"/>
                <a:ext cx="3207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'</m:t>
                    </m:r>
                    <m:r>
                      <m:t xml:space="preserve">i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244600" y="4927680"/>
                <a:ext cx="3463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4800600" y="3657600"/>
                <a:ext cx="3999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11" name=""/>
          <p:cNvGrpSpPr/>
          <p:nvPr/>
        </p:nvGrpSpPr>
        <p:grpSpPr>
          <a:xfrm>
            <a:off x="2158920" y="5410080"/>
            <a:ext cx="6163560" cy="533160"/>
            <a:chOff x="2158920" y="5410080"/>
            <a:chExt cx="6163560" cy="533160"/>
          </a:xfrm>
        </p:grpSpPr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2158920" y="5410080"/>
                  <a:ext cx="279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3" name=""/>
            <p:cNvSpPr/>
            <p:nvPr/>
          </p:nvSpPr>
          <p:spPr>
            <a:xfrm>
              <a:off x="2440800" y="5500440"/>
              <a:ext cx="22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strictly dominat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40840" y="5486040"/>
              <a:ext cx="268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weakly dominat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5638680"/>
              <a:ext cx="914400" cy="152280"/>
            </a:xfrm>
            <a:prstGeom prst="rightArrow">
              <a:avLst>
                <a:gd name="adj1" fmla="val 50000"/>
                <a:gd name="adj2" fmla="val 15011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5791320" y="5486040"/>
                  <a:ext cx="279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2A92-5A74-423B-8CEE-3BA32E1449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06:08:43Z</dcterms:created>
  <dc:creator>Dinesh Garg</dc:creator>
  <dc:description/>
  <dc:language>en-US</dc:language>
  <cp:lastModifiedBy>Dinesh Garg</cp:lastModifiedBy>
  <dcterms:modified xsi:type="dcterms:W3CDTF">2003-12-19T08:03:52Z</dcterms:modified>
  <cp:revision>453</cp:revision>
  <dc:subject/>
  <dc:title>Slide 1</dc:title>
</cp:coreProperties>
</file>