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wmf" ContentType="image/x-wmf"/>
  <Override PartName="/ppt/media/image12.png" ContentType="image/png"/>
  <Override PartName="/ppt/media/image11.wmf" ContentType="image/x-wmf"/>
  <Override PartName="/ppt/media/image3.png" ContentType="image/png"/>
  <Override PartName="/ppt/media/image7.png" ContentType="image/png"/>
  <Override PartName="/ppt/media/image1.jpeg" ContentType="image/jpeg"/>
  <Override PartName="/ppt/media/image6.png" ContentType="image/png"/>
  <Override PartName="/ppt/media/image4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DC66-F0A2-4469-95B5-354BFD8800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A5A60-9AC5-45F3-A8F0-F19B830187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788F-2CD4-42AF-B1BF-23C0FA3E15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E2D60-7FD7-4D9D-B636-E1C2217870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68AFE-B4A4-4BC9-9983-80F9F2C8E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BE5ABC-8396-4D39-A7EF-53B3A7856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D41073-0827-48DB-82AF-3CB58B886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8AF6A-D7C0-4E02-BE65-9C64C15C7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717060-1F1E-4239-9521-E563EF066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7772400" cy="39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E79D7-E8DC-4CFA-8669-EAA33E299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F2C7D-37A5-41A3-9ACD-8B12A40DA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2F39-1D49-487A-A0BC-C56139B70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4771A-A096-4A49-BFBE-F0C0EF3FF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E57BF-8C97-47E7-BFAF-98AB594E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63FC7-6183-484A-8D65-1768E0A5C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8D6B7-BC14-44EC-B04C-7EDF54AC1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75212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020840"/>
            <a:ext cx="250236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FC5B79-3A9A-45E0-90A3-567916A8E5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D755-1647-4D03-859E-66E1D5320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EBBF-0863-4500-8E1E-8FBA7CAA4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46474-A87A-4940-996E-764CB9AF4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2120"/>
            <a:ext cx="7772400" cy="391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C4DA6-B938-4299-97CD-3382C7CB1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728D-9171-4483-8C52-78F4C0BB8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02084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3F03F-2E2C-48DD-B287-B0750471B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752120"/>
            <a:ext cx="37926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020840"/>
            <a:ext cx="777240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790D-6E74-4892-90F2-33860799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6BFD6-2B4F-431A-A6F7-F83F12B37D1B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0A0C8-E52E-4560-A93C-B410403B54F5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7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5.png"/><Relationship Id="rId4" Type="http://schemas.openxmlformats.org/officeDocument/2006/relationships/image" Target="../media/image16.wmf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7.png"/><Relationship Id="rId9" Type="http://schemas.openxmlformats.org/officeDocument/2006/relationships/image" Target="../media/image9.png"/><Relationship Id="rId10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image" Target="../media/image8.png"/><Relationship Id="rId7" Type="http://schemas.openxmlformats.org/officeDocument/2006/relationships/image" Target="../media/image17.png"/><Relationship Id="rId8" Type="http://schemas.openxmlformats.org/officeDocument/2006/relationships/image" Target="../media/image20.png"/><Relationship Id="rId9" Type="http://schemas.openxmlformats.org/officeDocument/2006/relationships/image" Target="../media/image20.png"/><Relationship Id="rId1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image" Target="../media/image8.png"/><Relationship Id="rId9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7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image" Target="../media/image9.png"/><Relationship Id="rId1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7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1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2.png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12.png"/><Relationship Id="rId14" Type="http://schemas.openxmlformats.org/officeDocument/2006/relationships/oleObject" Target="../embeddings/oleObject7.bin"/><Relationship Id="rId15" Type="http://schemas.openxmlformats.org/officeDocument/2006/relationships/image" Target="../media/image13.png"/><Relationship Id="rId16" Type="http://schemas.openxmlformats.org/officeDocument/2006/relationships/oleObject" Target="../embeddings/oleObject8.bin"/><Relationship Id="rId17" Type="http://schemas.openxmlformats.org/officeDocument/2006/relationships/image" Target="../media/image10.png"/><Relationship Id="rId18" Type="http://schemas.openxmlformats.org/officeDocument/2006/relationships/oleObject" Target="../embeddings/oleObject9.bin"/><Relationship Id="rId19" Type="http://schemas.openxmlformats.org/officeDocument/2006/relationships/image" Target="../media/image14.png"/><Relationship Id="rId20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odeling Applications using UM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73320" y="3728880"/>
            <a:ext cx="64008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Bharath Kumar M (IISc)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ssues during system analysi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Accurately capture externally apparent system behavior without getting into detail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What is the user’s view of the system, and what does he/she expect from it?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Allow for easy understanding of ‘requirements’ amongst interested partie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UseCases!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Use case View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Revisiting the brief introduction to modeling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Models can act as guides to early thought process in system development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A use case view exactly helps achieve th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A use case view captures the behavior of the system, subsystem, or class as it appears to an outside user”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Use cases and actor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What is a use case?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System functionality can be partitioned into a set of discrete transactions that is meaningful to the user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Each such transaction is a use case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A use case represents a sequence of messages exchanged by the system and the user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 idealized user that participates in a use case is referred to as an </a:t>
            </a: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actor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698400" indent="-2685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An actor is an idealization of an external person, process, or a machine that interacts with the system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Use case diagram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 pictorial representation of actors, use cases and their interrelationships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 use case diagram contain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Actor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Use case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Associations (between actors and use cases)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Includes (to compose a bigger use case using smaller ones)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Use case generalization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Extends (to introduce additional behavior in a use case)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279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324480" y="1905120"/>
            <a:ext cx="2438640" cy="304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Use case diagram of our GeoTrace system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1527120" y="347760"/>
          <a:ext cx="5019840" cy="6168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7120" y="347760"/>
                    <a:ext cx="5019840" cy="616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7" name=""/>
          <p:cNvSpPr/>
          <p:nvPr/>
        </p:nvSpPr>
        <p:spPr>
          <a:xfrm>
            <a:off x="4876920" y="1143000"/>
            <a:ext cx="0" cy="838080"/>
          </a:xfrm>
          <a:prstGeom prst="line">
            <a:avLst/>
          </a:prstGeom>
          <a:ln w="9360">
            <a:solidFill>
              <a:srgbClr val="545472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4191120"/>
            <a:ext cx="0" cy="1143000"/>
          </a:xfrm>
          <a:prstGeom prst="line">
            <a:avLst/>
          </a:prstGeom>
          <a:ln w="9360">
            <a:solidFill>
              <a:srgbClr val="545472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4"/>
          <a:stretch/>
        </p:blipFill>
        <p:spPr>
          <a:xfrm>
            <a:off x="4952880" y="1523880"/>
            <a:ext cx="3510000" cy="23652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5"/>
          <a:stretch/>
        </p:blipFill>
        <p:spPr>
          <a:xfrm>
            <a:off x="4952880" y="4800600"/>
            <a:ext cx="3510000" cy="23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ow has it helped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 use case view helped us identify and document (in a structured fashion) the key players involved in the system and the key uses of the system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rovides a very high level abstraction that (for now) relieves us of all detail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No speak of this being a wireless application and associated technicalitie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Guides the later design proces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Use cases will later ‘refine’ to form collaborations between entities in the detailed system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Further into GeoTra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Lets brainstorm and think about some issues involved that will affect the system architectur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ubscription policy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You don’t want your enemies to know your movement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So the people who view your movements should be controlled by you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(All people who subscribe to your movement are authenticated by you)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ssues.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800" y="1257480"/>
            <a:ext cx="7772400" cy="537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Map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Plain dots will not be useful, position has to be indicated in a map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s would require integration with a map databas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raffic management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Movement being real time, you don’t want all the information to be transferred all the time to interested partie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e system only notifies of reasonably big changes in position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rver push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Intimation of movement not under the control of the subscriber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Geotrace system architectur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08" name=""/>
          <p:cNvGraphicFramePr/>
          <p:nvPr/>
        </p:nvGraphicFramePr>
        <p:xfrm>
          <a:off x="609480" y="3429000"/>
          <a:ext cx="847800" cy="905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09480" y="3429000"/>
                    <a:ext cx="847800" cy="90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0" name=""/>
          <p:cNvGraphicFramePr/>
          <p:nvPr/>
        </p:nvGraphicFramePr>
        <p:xfrm>
          <a:off x="609480" y="1371600"/>
          <a:ext cx="1101960" cy="773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09480" y="1371600"/>
                    <a:ext cx="1101960" cy="7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2" name=""/>
          <p:cNvGraphicFramePr/>
          <p:nvPr/>
        </p:nvGraphicFramePr>
        <p:xfrm>
          <a:off x="2743200" y="1371600"/>
          <a:ext cx="1101600" cy="7732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13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743200" y="1371600"/>
                    <a:ext cx="1101600" cy="7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4" name=""/>
          <p:cNvGraphicFramePr/>
          <p:nvPr/>
        </p:nvGraphicFramePr>
        <p:xfrm>
          <a:off x="4343400" y="1371600"/>
          <a:ext cx="1101600" cy="7732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343400" y="1371600"/>
                    <a:ext cx="1101600" cy="7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16" name=""/>
          <p:cNvGraphicFramePr/>
          <p:nvPr/>
        </p:nvGraphicFramePr>
        <p:xfrm>
          <a:off x="685800" y="5334120"/>
          <a:ext cx="723960" cy="9144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85800" y="5334120"/>
                    <a:ext cx="723960" cy="91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 flipH="1" flipV="1">
            <a:off x="1142640" y="1981080"/>
            <a:ext cx="304920" cy="1447920"/>
          </a:xfrm>
          <a:prstGeom prst="line">
            <a:avLst/>
          </a:prstGeom>
          <a:ln w="9360">
            <a:solidFill>
              <a:srgbClr val="545472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1447920" y="1981080"/>
            <a:ext cx="2895480" cy="1447920"/>
          </a:xfrm>
          <a:prstGeom prst="line">
            <a:avLst/>
          </a:prstGeom>
          <a:ln w="9360">
            <a:solidFill>
              <a:srgbClr val="545472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1447920" y="2133720"/>
            <a:ext cx="1371600" cy="1295280"/>
          </a:xfrm>
          <a:prstGeom prst="line">
            <a:avLst/>
          </a:prstGeom>
          <a:ln w="9360">
            <a:solidFill>
              <a:srgbClr val="545472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200400" y="2590920"/>
            <a:ext cx="1143000" cy="990360"/>
          </a:xfrm>
          <a:prstGeom prst="cube">
            <a:avLst>
              <a:gd name="adj" fmla="val 9134"/>
            </a:avLst>
          </a:prstGeom>
          <a:solidFill>
            <a:srgbClr val="ffff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352680" y="278748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Times New Roman"/>
              </a:rPr>
              <a:t>GPS Server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943600" y="2895480"/>
            <a:ext cx="1066680" cy="106704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5880" y="310824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Times New Roman"/>
              </a:rPr>
              <a:t>Map DB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200400" y="4191120"/>
            <a:ext cx="1371600" cy="1143000"/>
          </a:xfrm>
          <a:prstGeom prst="bevel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276720" y="4419720"/>
            <a:ext cx="121896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Times New Roman"/>
              </a:rPr>
              <a:t>White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Times New Roman"/>
              </a:rPr>
              <a:t>Board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19320" y="1905120"/>
            <a:ext cx="2286000" cy="685800"/>
          </a:xfrm>
          <a:prstGeom prst="line">
            <a:avLst/>
          </a:prstGeom>
          <a:ln w="9360">
            <a:solidFill>
              <a:srgbClr val="545472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352680" y="1905120"/>
            <a:ext cx="228600" cy="685800"/>
          </a:xfrm>
          <a:prstGeom prst="line">
            <a:avLst/>
          </a:prstGeom>
          <a:ln w="9360">
            <a:solidFill>
              <a:srgbClr val="545472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flipH="1">
            <a:off x="3581280" y="2057400"/>
            <a:ext cx="990720" cy="533520"/>
          </a:xfrm>
          <a:prstGeom prst="line">
            <a:avLst/>
          </a:prstGeom>
          <a:ln w="9360">
            <a:solidFill>
              <a:srgbClr val="545472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343400" y="3048120"/>
            <a:ext cx="1600200" cy="38088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809880" y="3581280"/>
            <a:ext cx="0" cy="60984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124080" y="5638680"/>
            <a:ext cx="1447920" cy="990720"/>
          </a:xfrm>
          <a:prstGeom prst="cube">
            <a:avLst>
              <a:gd name="adj" fmla="val 9134"/>
            </a:avLst>
          </a:prstGeom>
          <a:solidFill>
            <a:srgbClr val="ffff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276720" y="601992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Times New Roman"/>
              </a:rPr>
              <a:t>Notifier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19920" y="4968720"/>
            <a:ext cx="1066680" cy="106704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541008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45472"/>
                </a:solidFill>
                <a:latin typeface="Times New Roman"/>
              </a:rPr>
              <a:t>Registry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4572000" y="5486040"/>
            <a:ext cx="1447920" cy="60948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3809880" y="5334120"/>
            <a:ext cx="0" cy="304560"/>
          </a:xfrm>
          <a:prstGeom prst="line">
            <a:avLst/>
          </a:prstGeom>
          <a:ln w="93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4572000" y="3429000"/>
            <a:ext cx="1371600" cy="266688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 flipH="1" flipV="1">
            <a:off x="1447920" y="5866920"/>
            <a:ext cx="1676160" cy="304920"/>
          </a:xfrm>
          <a:prstGeom prst="line">
            <a:avLst/>
          </a:prstGeom>
          <a:ln w="9360">
            <a:solidFill>
              <a:srgbClr val="545472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blems with the previous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ough the main components in the system are mentioned, it lacks pertinent details lik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What functionality does each entity provide?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How are the entities interrelated?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How do these entities reflect in the implementation?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ass diagrams!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814320"/>
            <a:ext cx="7772400" cy="5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Model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4811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[James Rumbaugh, Ivar Jacobson and Grady Booch, The Unified Modeling Reference Manual, Addison Wesley, 1999]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What is a model?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 model is a representation of something in another medium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 formal/ semi-formal/ diagrammatic representation of softwar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 model captures the important aspects of the thing being modeled from a certain point of view and simplifies or omits the rest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static view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e static view of the system captures the key constituents of the system and their organization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e static view just specifies that an entity relates, associates or collaborates with another and does not exactly show the mechanism of interaction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e static view consists of classifiers and relations between them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assifier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A classifier is a discrete concept in the model, that has an identity, state, behavior and relationships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asses, interfaces, actors, use cases, components, nodes and packages can form classifiers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ass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Key part of UML and OO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asses have behavior and stat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asses represent units of reuse and is a descriptor for a set of objects with common behavior and structur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ese set of objects are said to be instances of the clas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Levels of mean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5800" y="1257480"/>
            <a:ext cx="7772400" cy="54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 class can be used in analysis, design and implementation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While representing real world concepts (during analysis), they capture the real-world state, relationships, and behavior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During design, they facilitate information hiding, visibility, methods, reuse (which are not relevant analysis concepts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n implementation level class may reflect features (or forego features) depending on the programming language chosen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However, in most cases the same classes are used at all levels </a:t>
            </a:r>
            <a:r>
              <a:rPr b="0" lang="en-US" sz="2800" spc="-1" strike="noStrike">
                <a:solidFill>
                  <a:srgbClr val="545472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Relationship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assifiers can relate to each other in several way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ssociation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Aggregation and composition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Link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Dependency/ Usag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Generalization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Realization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High level class diagram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685800" y="1600200"/>
          <a:ext cx="7772400" cy="4495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5800" y="1600200"/>
                    <a:ext cx="7772400" cy="44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Did it help?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Standard notation as compared to our ad hoc picture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Relationships in terms of standard element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Disadvantages (with current class diagram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e earlier picture portrayed richer semantic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Current class diagram does not differentiate between a whiteboard, a database, a mobile unit etc., or does not indicate if an association is over a remote/wireless link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800" y="91440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ass diagram with stereotyp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58" name=""/>
          <p:cNvGraphicFramePr/>
          <p:nvPr/>
        </p:nvGraphicFramePr>
        <p:xfrm>
          <a:off x="152280" y="1676520"/>
          <a:ext cx="8839440" cy="4306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676520"/>
                    <a:ext cx="8839440" cy="430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tereotyp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Key extension mechanism in UM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 stereotype is used to additionally qualify an element in UML so as to give it special semantic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ome UML tools (like Rose) even allow different icons and representations for stereotyped element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tereotypes are very useful in introducing domain specific names and issues into UML diagram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he dynamic view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e behavior of the system can be viewed from two main perspective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ntra class behavior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State diagram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Activity diagram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nter class collaboration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Interaction diagram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quence diagram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SzPct val="100000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Collaboration diagram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What are models for?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o promote unambiguous understanding among stakeholder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o reason about the design of a system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o organize, find, filter, retrieve, examine, and edit information about large system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o explore multiple solutions economically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o master complex system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o generate usable work product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quence diagram for subscriptio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65" name=""/>
          <p:cNvGraphicFramePr/>
          <p:nvPr/>
        </p:nvGraphicFramePr>
        <p:xfrm>
          <a:off x="1092240" y="838080"/>
          <a:ext cx="6958080" cy="5799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092240" y="838080"/>
                    <a:ext cx="6958080" cy="579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quence diagram for movement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68" name=""/>
          <p:cNvGraphicFramePr/>
          <p:nvPr/>
        </p:nvGraphicFramePr>
        <p:xfrm>
          <a:off x="122400" y="762120"/>
          <a:ext cx="8899200" cy="571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2400" y="762120"/>
                    <a:ext cx="8899200" cy="571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bservation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quence diagrams are refinements of use case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quence diagrams show interaction between objects and do not necessarily completely characterize the systems behavior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ey only exemplify a sample scenario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ssues in the detailed design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Each class itself will employ several classes for its implementation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ommunication, efficiency, algorithm, process and reuse issues will require creation of several more classe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ere is a need for organizing these sets of classe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39480" indent="-3394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Packages!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Detailed class diagram using packages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75" name=""/>
          <p:cNvGraphicFramePr/>
          <p:nvPr/>
        </p:nvGraphicFramePr>
        <p:xfrm>
          <a:off x="835200" y="1219320"/>
          <a:ext cx="7472160" cy="5465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835200" y="1219320"/>
                    <a:ext cx="7472160" cy="546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Detailed class diagram in NotifierPackage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1138320" y="1371600"/>
          <a:ext cx="6867360" cy="4649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7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138320" y="1371600"/>
                    <a:ext cx="6867360" cy="464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ome not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Each such detailed class diagram can again describe detailed interaction diagram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Each class can define its state charts or activity diagram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UML allows hierarchical organization and refinement of a large design through the use of package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Every diagram operates in a scop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Introduces a need to ensure consistency between diagrams (tool developers problem)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hysical view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 UML physical view depicts the organization of implementation artifact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 implementation view shows the physical packaging of the reusable pieces of the system into substitutable units, called component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e Component diagram defines components, the interfaces they provide and their dependencie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 deployment view shows the physical arrangement of run-time computational resource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09480" y="914400"/>
            <a:ext cx="77724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Deployment diagram for Geotrace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285" name=""/>
          <p:cNvGraphicFramePr/>
          <p:nvPr/>
        </p:nvGraphicFramePr>
        <p:xfrm>
          <a:off x="160200" y="1600200"/>
          <a:ext cx="8983800" cy="497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0200" y="1600200"/>
                    <a:ext cx="8983800" cy="497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 Summa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Diagrams visited upon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Use case diagram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Class diagram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Sequence diagram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Deployment diagram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Diagrams not visited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State chart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Activity diagram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Collaboration diagram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Component diagram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Levels of model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s guides to early thought process in the conception of a product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Abstract specifications of the structure of the softwar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Detailed specifications of the various software artifacts, their organization and their collaboration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ome notes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UML provides for many diagrams and does not require the user to use all of them all the time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Hierarchical organization of models using packages is useful, since it facilitates phase-wise refinement of the mod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Consistency across models an important aspect to be verified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UML provides for extensibility mechanisms to suit domain specific names, issues and constraint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2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ther side effects of modeling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Using good tools for modeling implies information and the knowledge about the system is stored in a formal, machine-readable form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is aspect can be exploited by tools that work alongside the model specifications so as to automate tasks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Validate consistency across view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Provide feedback on goodness of design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Automate code generation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Suggest test ordering, class firewalls for regression testing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…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6537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685800" y="83772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What’s in a model?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Models have a visual representation (notation) and associated semantic information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Models also define a context in which they are applicable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ools for modeling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Provide for a user-friendly means to prepare model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Provide rich interoperability and semantic mapping between various views of a system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Useful in exploiting information present in models to automate routine task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pplication Modeling using UML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A Case Stud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Let me introduce an abstract device, a cell phone fitted with a GPS module, and data integration between the two units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 cell phone allows usage of the existing communications network to communicate with the application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The GPS module constantly informs a server (and the user) about his/her position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457200" y="762120"/>
            <a:ext cx="8493120" cy="5943600"/>
            <a:chOff x="457200" y="762120"/>
            <a:chExt cx="8493120" cy="5943600"/>
          </a:xfrm>
        </p:grpSpPr>
        <p:graphicFrame>
          <p:nvGraphicFramePr>
            <p:cNvPr id="147" name=""/>
            <p:cNvGraphicFramePr/>
            <p:nvPr/>
          </p:nvGraphicFramePr>
          <p:xfrm>
            <a:off x="5181480" y="4572000"/>
            <a:ext cx="847800" cy="905040"/>
          </p:xfrm>
          <a:graphic>
            <a:graphicData uri="http://schemas.openxmlformats.org/presentationml/2006/ole">
              <p:oleObj r:id="rId2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3"/>
                    <a:stretch/>
                  </p:blipFill>
                  <p:spPr>
                    <a:xfrm>
                      <a:off x="5181480" y="4572000"/>
                      <a:ext cx="847800" cy="90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457200" y="838080"/>
            <a:ext cx="1101600" cy="7732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457200" y="838080"/>
                      <a:ext cx="1101600" cy="773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1" name=""/>
            <p:cNvGraphicFramePr/>
            <p:nvPr/>
          </p:nvGraphicFramePr>
          <p:xfrm>
            <a:off x="7848720" y="762120"/>
            <a:ext cx="1101600" cy="77292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152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7848720" y="762120"/>
                      <a:ext cx="1101600" cy="77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3" name=""/>
            <p:cNvGraphicFramePr/>
            <p:nvPr/>
          </p:nvGraphicFramePr>
          <p:xfrm>
            <a:off x="5181480" y="1905120"/>
            <a:ext cx="1101960" cy="77292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154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181480" y="1905120"/>
                      <a:ext cx="1101960" cy="772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5" name=""/>
            <p:cNvGraphicFramePr/>
            <p:nvPr/>
          </p:nvGraphicFramePr>
          <p:xfrm>
            <a:off x="1905120" y="4724280"/>
            <a:ext cx="723960" cy="91440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156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1905120" y="4724280"/>
                      <a:ext cx="72396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57" name=""/>
            <p:cNvGraphicFramePr/>
            <p:nvPr/>
          </p:nvGraphicFramePr>
          <p:xfrm>
            <a:off x="4210200" y="5715000"/>
            <a:ext cx="723600" cy="914400"/>
          </p:xfrm>
          <a:graphic>
            <a:graphicData uri="http://schemas.openxmlformats.org/presentationml/2006/ole">
              <p:oleObj r:id="rId12" spid="">
                <p:embed/>
                <p:pic>
                  <p:nvPicPr>
                    <p:cNvPr id="158" name="" descr=""/>
                    <p:cNvPicPr/>
                    <p:nvPr/>
                  </p:nvPicPr>
                  <p:blipFill>
                    <a:blip r:embed="rId13"/>
                    <a:stretch/>
                  </p:blipFill>
                  <p:spPr>
                    <a:xfrm>
                      <a:off x="4210200" y="5715000"/>
                      <a:ext cx="723600" cy="91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9" name=""/>
            <p:cNvSpPr/>
            <p:nvPr/>
          </p:nvSpPr>
          <p:spPr>
            <a:xfrm>
              <a:off x="1676520" y="3657600"/>
              <a:ext cx="4647960" cy="3048120"/>
            </a:xfrm>
            <a:prstGeom prst="hexagon">
              <a:avLst>
                <a:gd name="adj" fmla="val 38122"/>
                <a:gd name="vf" fmla="val 115470"/>
              </a:avLst>
            </a:prstGeom>
            <a:noFill/>
            <a:ln w="25560">
              <a:solidFill>
                <a:srgbClr val="54547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graphicFrame>
          <p:nvGraphicFramePr>
            <p:cNvPr id="160" name=""/>
            <p:cNvGraphicFramePr/>
            <p:nvPr/>
          </p:nvGraphicFramePr>
          <p:xfrm>
            <a:off x="3581280" y="3733920"/>
            <a:ext cx="828720" cy="857160"/>
          </p:xfrm>
          <a:graphic>
            <a:graphicData uri="http://schemas.openxmlformats.org/presentationml/2006/ole">
              <p:oleObj r:id="rId14" spid="">
                <p:embed/>
                <p:pic>
                  <p:nvPicPr>
                    <p:cNvPr id="161" name="" descr=""/>
                    <p:cNvPicPr/>
                    <p:nvPr/>
                  </p:nvPicPr>
                  <p:blipFill>
                    <a:blip r:embed="rId15"/>
                    <a:stretch/>
                  </p:blipFill>
                  <p:spPr>
                    <a:xfrm>
                      <a:off x="3581280" y="3733920"/>
                      <a:ext cx="828720" cy="857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62" name=""/>
            <p:cNvGraphicFramePr/>
            <p:nvPr/>
          </p:nvGraphicFramePr>
          <p:xfrm>
            <a:off x="2743200" y="5486400"/>
            <a:ext cx="847800" cy="905040"/>
          </p:xfrm>
          <a:graphic>
            <a:graphicData uri="http://schemas.openxmlformats.org/presentationml/2006/ole">
              <p:oleObj r:id="rId16" spid="">
                <p:embed/>
                <p:pic>
                  <p:nvPicPr>
                    <p:cNvPr id="163" name="" descr=""/>
                    <p:cNvPicPr/>
                    <p:nvPr/>
                  </p:nvPicPr>
                  <p:blipFill>
                    <a:blip r:embed="rId17"/>
                    <a:stretch/>
                  </p:blipFill>
                  <p:spPr>
                    <a:xfrm>
                      <a:off x="2743200" y="5486400"/>
                      <a:ext cx="847800" cy="905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164" name=""/>
          <p:cNvGrpSpPr/>
          <p:nvPr/>
        </p:nvGrpSpPr>
        <p:grpSpPr>
          <a:xfrm>
            <a:off x="1143000" y="1295280"/>
            <a:ext cx="7162920" cy="3514680"/>
            <a:chOff x="1143000" y="1295280"/>
            <a:chExt cx="7162920" cy="3514680"/>
          </a:xfrm>
        </p:grpSpPr>
        <p:graphicFrame>
          <p:nvGraphicFramePr>
            <p:cNvPr id="165" name=""/>
            <p:cNvGraphicFramePr/>
            <p:nvPr/>
          </p:nvGraphicFramePr>
          <p:xfrm>
            <a:off x="7010280" y="3962520"/>
            <a:ext cx="838440" cy="847440"/>
          </p:xfrm>
          <a:graphic>
            <a:graphicData uri="http://schemas.openxmlformats.org/presentationml/2006/ole">
              <p:oleObj r:id="rId18" spid="">
                <p:embed/>
                <p:pic>
                  <p:nvPicPr>
                    <p:cNvPr id="166" name="" descr=""/>
                    <p:cNvPicPr/>
                    <p:nvPr/>
                  </p:nvPicPr>
                  <p:blipFill>
                    <a:blip r:embed="rId19"/>
                    <a:stretch/>
                  </p:blipFill>
                  <p:spPr>
                    <a:xfrm>
                      <a:off x="7010280" y="3962520"/>
                      <a:ext cx="838440" cy="847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67" name=""/>
            <p:cNvSpPr/>
            <p:nvPr/>
          </p:nvSpPr>
          <p:spPr>
            <a:xfrm>
              <a:off x="1143000" y="1295280"/>
              <a:ext cx="5867280" cy="2743200"/>
            </a:xfrm>
            <a:prstGeom prst="line">
              <a:avLst/>
            </a:prstGeom>
            <a:ln w="9360">
              <a:solidFill>
                <a:srgbClr val="545472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91320" y="2438280"/>
              <a:ext cx="1447560" cy="1600200"/>
            </a:xfrm>
            <a:prstGeom prst="line">
              <a:avLst/>
            </a:prstGeom>
            <a:ln w="9360">
              <a:solidFill>
                <a:srgbClr val="545472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7391520" y="1371600"/>
              <a:ext cx="914400" cy="2590920"/>
            </a:xfrm>
            <a:prstGeom prst="line">
              <a:avLst/>
            </a:prstGeom>
            <a:ln w="9360">
              <a:solidFill>
                <a:srgbClr val="545472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267080" y="3962520"/>
              <a:ext cx="2743200" cy="152280"/>
            </a:xfrm>
            <a:prstGeom prst="line">
              <a:avLst/>
            </a:prstGeom>
            <a:ln w="9360">
              <a:solidFill>
                <a:srgbClr val="545472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990360" y="1447560"/>
            <a:ext cx="6858360" cy="3276720"/>
            <a:chOff x="990360" y="1447560"/>
            <a:chExt cx="6858360" cy="3276720"/>
          </a:xfrm>
        </p:grpSpPr>
        <p:sp>
          <p:nvSpPr>
            <p:cNvPr id="172" name=""/>
            <p:cNvSpPr/>
            <p:nvPr/>
          </p:nvSpPr>
          <p:spPr>
            <a:xfrm flipH="1" flipV="1">
              <a:off x="990360" y="1447560"/>
              <a:ext cx="990360" cy="32763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flipV="1">
              <a:off x="2286000" y="2514600"/>
              <a:ext cx="2895480" cy="220968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V="1">
              <a:off x="2514600" y="1447560"/>
              <a:ext cx="5334120" cy="32763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1143000" y="1295280"/>
            <a:ext cx="7162920" cy="2743200"/>
            <a:chOff x="1143000" y="1295280"/>
            <a:chExt cx="7162920" cy="2743200"/>
          </a:xfrm>
        </p:grpSpPr>
        <p:sp>
          <p:nvSpPr>
            <p:cNvPr id="176" name=""/>
            <p:cNvSpPr/>
            <p:nvPr/>
          </p:nvSpPr>
          <p:spPr>
            <a:xfrm flipH="1">
              <a:off x="7391520" y="1295280"/>
              <a:ext cx="914400" cy="266724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43000" y="1295280"/>
              <a:ext cx="5867280" cy="274320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791320" y="2438280"/>
              <a:ext cx="1371600" cy="152424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352320" y="3962160"/>
            <a:ext cx="3657960" cy="1676520"/>
            <a:chOff x="3352320" y="3962160"/>
            <a:chExt cx="3657960" cy="1676520"/>
          </a:xfrm>
        </p:grpSpPr>
        <p:sp>
          <p:nvSpPr>
            <p:cNvPr id="180" name=""/>
            <p:cNvSpPr/>
            <p:nvPr/>
          </p:nvSpPr>
          <p:spPr>
            <a:xfrm flipH="1" flipV="1">
              <a:off x="4267080" y="3962160"/>
              <a:ext cx="2743200" cy="15228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3352320" y="4572000"/>
              <a:ext cx="304920" cy="91440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038480" y="4648320"/>
              <a:ext cx="381240" cy="99036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72000" y="4495680"/>
              <a:ext cx="685800" cy="381240"/>
            </a:xfrm>
            <a:prstGeom prst="line">
              <a:avLst/>
            </a:prstGeom>
            <a:ln w="9360">
              <a:solidFill>
                <a:srgbClr val="545472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762120"/>
            <a:ext cx="7772400" cy="8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roblem Statemen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Make movements of a mobile person known to a set of interested (and allowed) parties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Lets call the system </a:t>
            </a:r>
            <a:r>
              <a:rPr b="1" lang="en-US" sz="3200" spc="-1" strike="noStrike">
                <a:solidFill>
                  <a:srgbClr val="545472"/>
                </a:solidFill>
                <a:latin typeface="Tahoma"/>
              </a:rPr>
              <a:t>GeoTrace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Initial thoughts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Publish-Subscribe mod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05T17:15:12Z</dcterms:created>
  <dc:creator>M.Bharath Kumar</dc:creator>
  <dc:description/>
  <dc:language>en-US</dc:language>
  <cp:lastModifiedBy>mbk</cp:lastModifiedBy>
  <dcterms:modified xsi:type="dcterms:W3CDTF">2001-07-11T08:47:10Z</dcterms:modified>
  <cp:revision>18</cp:revision>
  <dc:subject/>
  <dc:title>Modeling for Wireless Applications and Systems</dc:title>
</cp:coreProperties>
</file>